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4BE9-1BEB-4B3E-A973-D0F4FA57C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EA9A-C7BC-4E7F-ABAD-CC91A2DE9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C635-18AF-4B25-95AE-4A03481D8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C306-960F-4221-AB4D-1CBEB1DA5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5EFC-50B9-40CF-8435-9A046BD03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245E-8866-43EE-AA53-7C3FCA94B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12D6-A9B9-4B69-8701-4E3CD5B49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93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9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616120" y="304812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uccessful Club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1954080" y="3657600"/>
            <a:ext cx="522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Creating the Best</a:t>
            </a:r>
            <a:br>
              <a:rPr sz="4800"/>
            </a:b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Club Clim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90920" y="2819520"/>
            <a:ext cx="59436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 environ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mber intera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lub Climate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1868760" y="2209680"/>
            <a:ext cx="38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93f"/>
                </a:solidFill>
                <a:latin typeface="Arial"/>
                <a:ea typeface="Arial"/>
              </a:rPr>
              <a:t>The Deciding Fact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90920" y="2971800"/>
            <a:ext cx="45720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Bef>
                <a:spcPts val="561"/>
              </a:spcBef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riving prepa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561"/>
              </a:spcBef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fering assist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561"/>
              </a:spcBef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luntee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561"/>
              </a:spcBef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440" y="837720"/>
            <a:ext cx="6553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Set an Example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818000" y="2209680"/>
            <a:ext cx="517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93f"/>
                </a:solidFill>
                <a:latin typeface="Arial"/>
                <a:ea typeface="Arial"/>
              </a:rPr>
              <a:t>Make a good impression b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90720" y="2742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70440" indent="-370440">
              <a:lnSpc>
                <a:spcPct val="90000"/>
              </a:lnSpc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eet gu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lnSpc>
                <a:spcPct val="90000"/>
              </a:lnSpc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age them in convers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lnSpc>
                <a:spcPct val="90000"/>
              </a:lnSpc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swer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lnSpc>
                <a:spcPct val="90000"/>
              </a:lnSpc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friend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lnSpc>
                <a:spcPct val="90000"/>
              </a:lnSpc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ite them to another meeting or to jo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Welcome Guest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762120" y="2133720"/>
            <a:ext cx="4267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93f"/>
                </a:solidFill>
                <a:latin typeface="Arial"/>
                <a:ea typeface="Arial"/>
              </a:rPr>
              <a:t>First Impressions Cou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057040" y="2514240"/>
            <a:ext cx="6248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Bef>
                <a:spcPts val="1125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a men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1125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w interest in oth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1125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consider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1125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aluate effective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1125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ognize achiev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1125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ster camarader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Show Members 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That You Care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93f"/>
                </a:solidFill>
                <a:latin typeface="Arial"/>
              </a:rPr>
              <a:t>Keep your</a:t>
            </a:r>
            <a:br>
              <a:rPr sz="4800"/>
            </a:br>
            <a:r>
              <a:rPr b="1" i="1" lang="en-US" sz="4800" spc="-1" strike="noStrike">
                <a:solidFill>
                  <a:srgbClr val="00293f"/>
                </a:solidFill>
                <a:latin typeface="Arial"/>
              </a:rPr>
              <a:t>club thrivin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8305920" y="640080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5:19:31Z</dcterms:created>
  <dc:creator>Corey Smith</dc:creator>
  <dc:description/>
  <dc:language>en-US</dc:language>
  <cp:lastModifiedBy>Graphic user</cp:lastModifiedBy>
  <cp:lastPrinted>2011-03-07T22:20:14Z</cp:lastPrinted>
  <dcterms:modified xsi:type="dcterms:W3CDTF">2013-07-12T17:52:25Z</dcterms:modified>
  <cp:revision>61</cp:revision>
  <dc:subject/>
  <dc:title>PowerPoint Presentation</dc:title>
</cp:coreProperties>
</file>