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AAA6-33E5-468A-8AE9-A37886AB5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CC96-8FAC-47BA-B77D-885DB7A8A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B934-FF48-4A26-B78D-93B50B040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A222-75A7-42AE-A020-B4EF44232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937D-54E7-49A1-BF64-DCC2BD982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DE23-88EC-4993-BE19-098AD3518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4A0C-CFFF-49FA-A9D6-846975AC0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B919-FE7E-4C7B-9C79-6728471D0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7BCA-B870-45E6-903F-14F38F79D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F3CA-4C6A-4B91-B31F-E0C6D2A1A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4446-1FC9-4EAA-BAE3-19D1DEA29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3360-3EC6-43C2-8204-C1CB97EDF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058C-1DA3-413C-B2F0-E3C645037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70C0-180F-4C2C-805D-D768BBF9D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3003120" y="3665520"/>
            <a:ext cx="312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Mento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676520" y="251424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l how you have benefi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e the mentee to other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knowledge progr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officers’ du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speech conte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organ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Mentoring Step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600200" y="188424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ver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666880" y="2514240"/>
            <a:ext cx="4648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ger to lea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p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to new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y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te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381880" y="6400800"/>
            <a:ext cx="3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Qualities of Mente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209680" y="188424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ntees should b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143000" y="28195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</a:rPr>
              <a:t>It should not last forever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 Finite Relationship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438280" y="198108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Experien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        </a:t>
            </a: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Lear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               </a:t>
            </a: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Benef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5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s a personal interest and hel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s as a role model, coach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confida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ers knowledge, insight, perspective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wisd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someone become success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What is a Mentor?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066680" y="188424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mento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3880" y="20574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the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club standards and cus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conf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e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ickly learn speaking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Easing the Transi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09680" y="2839680"/>
            <a:ext cx="5943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rther refine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new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Developing Special Skil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828800" y="205740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re experienced memb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057040" y="228600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from their ment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ain produ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something for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ive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Benefits to Mentor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6000" y="23619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satisfied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er member reten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Benefits to Club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343040" y="22093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uppor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nowledge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good listen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Mentor Qualiti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371600" y="2209680"/>
            <a:ext cx="2895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vail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Pati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Sensitiv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Respectfu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Flex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057040" y="259092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 with the new m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 the new member to club customs and proced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o sign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with the Ice Br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Mentoring Step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523880" y="1884240"/>
            <a:ext cx="403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First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5640" y="2590560"/>
            <a:ext cx="5334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mentees awar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resour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positive feedbac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responsibil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 with speeches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assignm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Mentoring Step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600200" y="188424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Next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5:22:13Z</dcterms:created>
  <dc:creator>Corey Smith</dc:creator>
  <dc:description/>
  <dc:language>en-US</dc:language>
  <cp:lastModifiedBy>Diana Helms</cp:lastModifiedBy>
  <cp:lastPrinted>2011-03-07T22:20:14Z</cp:lastPrinted>
  <dcterms:modified xsi:type="dcterms:W3CDTF">2011-04-04T16:14:21Z</dcterms:modified>
  <cp:revision>62</cp:revision>
  <dc:subject/>
  <dc:title>PowerPoint Presentation</dc:title>
</cp:coreProperties>
</file>