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F42-3BE5-4E0E-AF05-E2185D2D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1FB-5979-4E55-AA89-6A52C8F9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E36-B7D3-40B4-A20F-CA67D1B6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FD0-97B8-4EC4-B561-F7156ACA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B73-6DF1-4D85-9896-686058734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989-E922-473A-B35F-DBC8C9E71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F06-3CBE-4137-A527-FB3E78AE0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43080" y="3611520"/>
            <a:ext cx="664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inding New Members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or Y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f"/>
                </a:solidFill>
                <a:latin typeface="Arial"/>
              </a:rPr>
              <a:t> </a:t>
            </a: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Let us share the benefits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we have gained for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ourselves with other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Dr. Ralph C. Sme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nding New Members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Your Club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to friends, relatives, and co-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r a Toastmasters membership p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astmast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promotional brochures and f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uct a Speechcraft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account on a social networking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ruit New Membe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 at the door as they arr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 with a guest during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with the guest after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guest to join members for any after-meeting sociali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the guest to visit ag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reat Guests Proper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2438280"/>
            <a:ext cx="6477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f"/>
                </a:solidFill>
                <a:latin typeface="Arial"/>
                <a:ea typeface="Arial"/>
              </a:rPr>
              <a:t>Always keep the club’s membership efforts personal, helpful, and friend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A guest never forgets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he host who had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reated him kindly.</a:t>
            </a:r>
            <a:br>
              <a:rPr sz="4500"/>
            </a:br>
            <a:r>
              <a:rPr b="1" lang="en-US" sz="4500" spc="-1" strike="noStrike">
                <a:solidFill>
                  <a:srgbClr val="00293f"/>
                </a:solidFill>
                <a:latin typeface="Arial"/>
              </a:rPr>
              <a:t>– Hom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21:36:17Z</dcterms:created>
  <dc:creator>Corey Smith</dc:creator>
  <dc:description/>
  <dc:language>en-US</dc:language>
  <cp:lastModifiedBy>Diana Helms</cp:lastModifiedBy>
  <cp:lastPrinted>2011-06-23T21:38:01Z</cp:lastPrinted>
  <dcterms:modified xsi:type="dcterms:W3CDTF">2011-08-03T19:18:18Z</dcterms:modified>
  <cp:revision>65</cp:revision>
  <dc:subject/>
  <dc:title>PowerPoint Presentation</dc:title>
</cp:coreProperties>
</file>