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F545-950D-42EF-8056-31B18E6B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FDCD-461C-4D88-9E8E-08B0B2E5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BA4-4A08-404B-8A7E-F53127A2F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E5FF-663D-4E31-AAA8-36CF84AA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975-E0F7-41B1-8946-20E99191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729-7DCC-4887-BED2-8E3C3113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D3F-638B-457D-BEC3-8500E34D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7382-E315-4C60-821A-A759E5487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531800" y="3665520"/>
            <a:ext cx="606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Evaluate to Motiv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valuations Benefit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akers by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immediate feedb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ing methods for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nd maintaining self-este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valuating by the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“Tell and Sell” Approach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85800" y="28195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When the evaluator talk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…</a:t>
            </a: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and the speaker liste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spcBef>
                <a:spcPts val="561"/>
              </a:spcBef>
              <a:spcAft>
                <a:spcPts val="10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the speech, talk with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 about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How to Evaluate Effective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523880" y="28195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23880" y="4764240"/>
            <a:ext cx="696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you are inter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self in the position of the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62120" y="42670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spcAft>
                <a:spcPts val="108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uring the speec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How to Evaluate Effective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95280" y="212076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4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uring your evalu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752480" y="28828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word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speech, not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void Being Disingenuou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Honest evaluations are upbeat and encouraging while offering suggestions for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osing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95280" y="2438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o your opening stat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ize your key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personal story or exa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listeners to apply wh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eard and lear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7:24:01Z</dcterms:created>
  <dc:creator>Corey Smith</dc:creator>
  <dc:description/>
  <dc:language>en-US</dc:language>
  <cp:lastModifiedBy>Diana Helms</cp:lastModifiedBy>
  <cp:lastPrinted>2011-03-24T17:36:10Z</cp:lastPrinted>
  <dcterms:modified xsi:type="dcterms:W3CDTF">2011-04-04T15:58:57Z</dcterms:modified>
  <cp:revision>62</cp:revision>
  <dc:subject/>
  <dc:title>PowerPoint Presentation</dc:title>
</cp:coreProperties>
</file>