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93f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A282C-96F6-452C-A2EA-C68FA6E0BF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9AB17-7045-4B54-A7EF-54695823DE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E6506-2E67-4127-A8E4-B0EFEE271D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0239A-40EC-461B-A262-49D0ED6924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142D1-4F32-4E9F-9106-35D1651B13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0ABC4-08A7-4C8F-80D3-58649135E3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ppt pg bkgd-1.png"/>
          <p:cNvPicPr/>
          <p:nvPr/>
        </p:nvPicPr>
        <p:blipFill>
          <a:blip r:embed="rId2"/>
          <a:stretch/>
        </p:blipFill>
        <p:spPr>
          <a:xfrm>
            <a:off x="468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93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293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ppt title pg bkgd-1.png"/>
          <p:cNvPicPr/>
          <p:nvPr/>
        </p:nvPicPr>
        <p:blipFill>
          <a:blip r:embed="rId1"/>
          <a:stretch/>
        </p:blipFill>
        <p:spPr>
          <a:xfrm>
            <a:off x="468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033"/>
          <p:cNvSpPr/>
          <p:nvPr/>
        </p:nvSpPr>
        <p:spPr>
          <a:xfrm>
            <a:off x="8513640" y="6248520"/>
            <a:ext cx="37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29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Box 8"/>
          <p:cNvSpPr/>
          <p:nvPr/>
        </p:nvSpPr>
        <p:spPr>
          <a:xfrm>
            <a:off x="2616120" y="3002040"/>
            <a:ext cx="39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Successful Club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Box 9"/>
          <p:cNvSpPr/>
          <p:nvPr/>
        </p:nvSpPr>
        <p:spPr>
          <a:xfrm>
            <a:off x="228600" y="3611520"/>
            <a:ext cx="8686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93f"/>
                </a:solidFill>
                <a:latin typeface="Arial"/>
                <a:ea typeface="Arial"/>
              </a:rPr>
              <a:t>Meeting Roles and</a:t>
            </a:r>
            <a:br>
              <a:rPr sz="4800"/>
            </a:br>
            <a:r>
              <a:rPr b="1" lang="en-US" sz="4800" spc="-1" strike="noStrike">
                <a:solidFill>
                  <a:srgbClr val="00293f"/>
                </a:solidFill>
                <a:latin typeface="Arial"/>
                <a:ea typeface="Arial"/>
              </a:rPr>
              <a:t>Responsibiliti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0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Assigned Meeting Roles</a:t>
            </a:r>
            <a:endParaRPr b="1" lang="en-US" sz="36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440" y="213372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925"/>
              </a:spcBef>
              <a:buClr>
                <a:srgbClr val="b91428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astmas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925"/>
              </a:spcBef>
              <a:buClr>
                <a:srgbClr val="b91428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picsmas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925"/>
              </a:spcBef>
              <a:buClr>
                <a:srgbClr val="b91428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peak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925"/>
              </a:spcBef>
              <a:buClr>
                <a:srgbClr val="b91428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eneral Evaluat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4"/>
          <p:cNvSpPr/>
          <p:nvPr/>
        </p:nvSpPr>
        <p:spPr>
          <a:xfrm>
            <a:off x="4724280" y="2133720"/>
            <a:ext cx="3886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925"/>
              </a:spcBef>
              <a:buClr>
                <a:srgbClr val="b91428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Speech Evaluator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925"/>
              </a:spcBef>
              <a:buClr>
                <a:srgbClr val="b91428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Tim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925"/>
              </a:spcBef>
              <a:buClr>
                <a:srgbClr val="b91428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Grammaria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925"/>
              </a:spcBef>
              <a:buClr>
                <a:srgbClr val="b91428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Ah-Count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5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2362320" y="2133360"/>
            <a:ext cx="58672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1925"/>
              </a:spcBef>
              <a:buClr>
                <a:srgbClr val="b91428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esenter of Invo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925"/>
              </a:spcBef>
              <a:buClr>
                <a:srgbClr val="b91428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Jokemas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925"/>
              </a:spcBef>
              <a:buClr>
                <a:srgbClr val="b91428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ote Coun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925"/>
              </a:spcBef>
              <a:buClr>
                <a:srgbClr val="b91428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rliamentari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0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Additional Roles</a:t>
            </a:r>
            <a:endParaRPr b="1" lang="en-US" sz="3600" spc="-1" strike="noStrike">
              <a:solidFill>
                <a:srgbClr val="00293f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50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1904760" y="1904760"/>
            <a:ext cx="64767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8520" indent="-398520">
              <a:spcAft>
                <a:spcPts val="1199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rgeant at Ar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spcAft>
                <a:spcPts val="1199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esid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spcAft>
                <a:spcPts val="1199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ice President Edu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spcAft>
                <a:spcPts val="1199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ice President Public Rel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spcAft>
                <a:spcPts val="1199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ice President Membershi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spcAft>
                <a:spcPts val="1199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reta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spcAft>
                <a:spcPts val="1199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easur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2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685440" y="914040"/>
            <a:ext cx="6553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Club Officers’ Meeting Roles</a:t>
            </a:r>
            <a:endParaRPr b="1" lang="en-US" sz="3600" spc="-1" strike="noStrike">
              <a:solidFill>
                <a:srgbClr val="00293f"/>
              </a:solidFill>
              <a:latin typeface="Arial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50"/>
                            </p:stCondLst>
                            <p:childTnLst>
                              <p:par>
                                <p:cTn id="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5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152280" y="1981080"/>
            <a:ext cx="8839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3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293f"/>
                </a:solidFill>
                <a:latin typeface="Arial"/>
              </a:rPr>
              <a:t>“</a:t>
            </a:r>
            <a:r>
              <a:rPr b="1" i="1" lang="en-US" sz="4000" spc="-1" strike="noStrike">
                <a:solidFill>
                  <a:srgbClr val="00293f"/>
                </a:solidFill>
                <a:latin typeface="Arial"/>
              </a:rPr>
              <a:t>Coming together is a beginning. Keeping together is progress. Working together is success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6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93f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293f"/>
                </a:solidFill>
                <a:latin typeface="Arial"/>
              </a:rPr>
              <a:t>Henry Ford, American Industrialist;</a:t>
            </a:r>
            <a:br>
              <a:rPr sz="2800"/>
            </a:br>
            <a:r>
              <a:rPr b="0" lang="en-US" sz="2800" spc="-1" strike="noStrike">
                <a:solidFill>
                  <a:srgbClr val="00293f"/>
                </a:solidFill>
                <a:latin typeface="Arial"/>
              </a:rPr>
              <a:t>pioneer of the assembly-line production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8305920" y="6400800"/>
            <a:ext cx="3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Conclusion</a:t>
            </a:r>
            <a:endParaRPr b="1" lang="en-US" sz="3600" spc="-1" strike="noStrike">
              <a:solidFill>
                <a:srgbClr val="00293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53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7T18:04:21Z</dcterms:created>
  <dc:creator>Corey Smith</dc:creator>
  <dc:description/>
  <dc:language>en-US</dc:language>
  <cp:lastModifiedBy>Diana Helms</cp:lastModifiedBy>
  <cp:lastPrinted>2011-03-24T21:19:41Z</cp:lastPrinted>
  <dcterms:modified xsi:type="dcterms:W3CDTF">2011-04-04T16:09:41Z</dcterms:modified>
  <cp:revision>63</cp:revision>
  <dc:subject/>
  <dc:title>PowerPoint Presentation</dc:title>
</cp:coreProperties>
</file>