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4620-8500-45AA-A3F1-5C23A9458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D2EE-4787-4D83-BA8F-78BDD1CA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E990-0F14-4EFD-9678-7239C75D8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5F51-7A6A-40A3-A2D9-9B79638F7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D4D1-DBAB-4D90-91E5-218F6E660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612160" y="3665520"/>
            <a:ext cx="390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Keeping the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ommi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nding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fully preparing spee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filling all assign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participate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helpful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ing a positive, friendly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ng as an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ing members &amp; guests with respect and court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aid fellowship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52480" y="2469960"/>
            <a:ext cx="647712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ing g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ing guidelines and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ing ethic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maintain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quality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5:03:50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7:27Z</dcterms:modified>
  <cp:revision>59</cp:revision>
  <dc:subject/>
  <dc:title>PowerPoint Presentation</dc:title>
</cp:coreProperties>
</file>