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F70B-2B94-45C5-BC8A-781F68D3B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10F1-676D-4101-AFAF-0045C535D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C4B7-5BE8-4292-B69A-78106A2A7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68C-C83A-4A15-A9A1-6DC17D8F8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4955-FAFB-4D91-AD78-CE59CFC6E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A300-56F1-4143-A3D9-2A1076C3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FD11-8DC9-426C-8E57-1AA6EC41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394360" y="3665520"/>
            <a:ext cx="434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Going Beyo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71440" y="213372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est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mc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d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666880" y="205704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ri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Opportun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4284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ech Conte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arader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ferences and Conven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offer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ake advantage of the learning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and leadership options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oastmasters prov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4:55:27Z</dcterms:created>
  <dc:creator>Corey Smith</dc:creator>
  <dc:description/>
  <dc:language>en-US</dc:language>
  <cp:lastModifiedBy>Diana Helms</cp:lastModifiedBy>
  <cp:lastPrinted>2011-03-28T15:28:16Z</cp:lastPrinted>
  <dcterms:modified xsi:type="dcterms:W3CDTF">2011-04-04T16:21:57Z</dcterms:modified>
  <cp:revision>58</cp:revision>
  <dc:subject/>
  <dc:title>PowerPoint Presentation</dc:title>
</cp:coreProperties>
</file>