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18EB-B53B-4051-AD73-E2688C49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AE44-AC11-4A80-BA59-F2F8BF12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316A-3637-4CE6-B81E-20D98F9CE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E770-D4A6-4CC9-AC2E-F9CF1D17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832-A483-4B93-B86C-041D582C5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5F68-0924-452F-9653-CEE04837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CD7-7712-41AA-8B27-EF3E0EF3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B67D-F398-4E81-9FD9-17BB3D62E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616-2D4E-468E-A1A1-920B03A2E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159200" y="3665520"/>
            <a:ext cx="68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The Leader as a Co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clear dire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ollabo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e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Universal Principle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hey are supposed to d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they are suppos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y are suppos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ll they are expect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ll they are d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Fundamentals of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s high but achievable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ides team me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sup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s advi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feedbac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s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A Coach’s Responsibility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6556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performance with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with the team memb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or acknowledg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toward a 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to Effective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m, n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the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t when you have made a mista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imp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hort and specifi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ince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time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ips for Discus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mora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ower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Coach by exampl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09:29:48Z</dcterms:created>
  <dc:creator>Corey Smith</dc:creator>
  <dc:description/>
  <dc:language>en-US</dc:language>
  <cp:lastModifiedBy>Diana Helms</cp:lastModifiedBy>
  <cp:lastPrinted>2011-06-22T21:10:06Z</cp:lastPrinted>
  <dcterms:modified xsi:type="dcterms:W3CDTF">2011-06-24T18:26:46Z</dcterms:modified>
  <cp:revision>80</cp:revision>
  <dc:subject/>
  <dc:title>PowerPoint Presentation</dc:title>
</cp:coreProperties>
</file>