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2ED0-DE6E-49C3-B109-5BACECD5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3F15-67D8-4913-81AD-49107A4FD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0A64-FCBD-47D9-A9AE-432380680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2D13-2098-404D-9AA8-D121C13AE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70BA-517D-4439-9F23-A53C906B5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606F-D631-4932-86A7-BB151ECBE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07DA-DA93-4DD6-9B9F-B71EB2E18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159200" y="3665520"/>
            <a:ext cx="681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Values an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6850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et of beliefs and ideas affecting the way people make decisions and conduct themselv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alues and Leadership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hat are Valu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6850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s of conduct based on the rightness or wrongness of a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alues and Leadership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thics and Mor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50920" y="3124080"/>
            <a:ext cx="68500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alues and Leadership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270080" y="2023920"/>
            <a:ext cx="650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ffective Leaders Demonstrate Their Values b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gnize and reward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alues and Leadership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837720" y="22860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It’s not hard to make decisions when you know what your values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Roy Dis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alues and Leadership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3:54:26Z</dcterms:created>
  <dc:creator>Corey Smith</dc:creator>
  <dc:description/>
  <dc:language>en-US</dc:language>
  <cp:lastModifiedBy>Diana Helms</cp:lastModifiedBy>
  <cp:lastPrinted>2011-06-24T16:47:15Z</cp:lastPrinted>
  <dcterms:modified xsi:type="dcterms:W3CDTF">2011-06-24T16:51:11Z</dcterms:modified>
  <cp:revision>67</cp:revision>
  <dc:subject/>
  <dc:title>PowerPoint Presentation</dc:title>
</cp:coreProperties>
</file>