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6208-4E05-48AC-A9F1-8A1EF34C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3242-93CC-4571-B4C4-58BFB81A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5701-24DF-4232-BE80-67050394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9D8-FA47-4646-8F73-10BCBFE0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D4F9-9DF9-4EE5-9119-1AA197E7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AFA-75E0-4227-B79B-D608ED57C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056960" y="3665520"/>
            <a:ext cx="70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Service an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 clear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e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ffective Leade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problem-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lerate mista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team members g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eam Leade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he quality of work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product or service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organization/company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Teams 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 person who is worthy of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eing a leader wants power not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for himself, but in order to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e of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U.S. Senator Sam J. Ervin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21:41:10Z</dcterms:created>
  <dc:creator>Corey Smith</dc:creator>
  <dc:description/>
  <dc:language>en-US</dc:language>
  <cp:lastModifiedBy>Diana Helms</cp:lastModifiedBy>
  <cp:lastPrinted>2011-06-22T21:33:23Z</cp:lastPrinted>
  <dcterms:modified xsi:type="dcterms:W3CDTF">2011-06-24T18:53:06Z</dcterms:modified>
  <cp:revision>68</cp:revision>
  <dc:subject/>
  <dc:title>PowerPoint Presentation</dc:title>
</cp:coreProperties>
</file>