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08E2-22EE-4631-9DCB-30E86E4B0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339F-D5F2-4E93-81FB-9FABC7BBA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224C-726D-4C05-B444-A734F7FE5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A323-948E-4D12-8F3D-46D106FD0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1236-30DD-4E08-911E-2E5684CCB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94D3-01CB-43A7-B46E-9A06FDDE9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AB38-F771-4897-8581-806209A8C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ppt pg bkgd-1.png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ppt title pg bkgd-1.pn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3"/>
          <p:cNvSpPr/>
          <p:nvPr/>
        </p:nvSpPr>
        <p:spPr>
          <a:xfrm>
            <a:off x="8513640" y="6248520"/>
            <a:ext cx="3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31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2176920" y="3056040"/>
            <a:ext cx="479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Leadership Excellenc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1869840" y="3665520"/>
            <a:ext cx="538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1629"/>
                </a:solidFill>
                <a:latin typeface="Arial"/>
                <a:ea typeface="Arial"/>
              </a:rPr>
              <a:t>Motivating Peop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87480" y="201096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derstanding oth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ing and maint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ing opportun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Motivation means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87480" y="2011320"/>
            <a:ext cx="7696080" cy="42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ai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blic recogn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re responsi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Motivators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447920" y="2057040"/>
            <a:ext cx="62481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courage team members to use their natural skills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8305920" y="6400800"/>
            <a:ext cx="3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Motivators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987120" y="2011320"/>
            <a:ext cx="7242120" cy="42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ognize immediate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ward only the desired behavi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ress undesirable behavi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iminate obstac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Use Appropriate Recognition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440" y="2209680"/>
            <a:ext cx="76201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293f"/>
                </a:solidFill>
                <a:latin typeface="Arial"/>
              </a:rPr>
              <a:t>If your actions inspire others to </a:t>
            </a:r>
            <a:br>
              <a:rPr sz="3200"/>
            </a:br>
            <a:r>
              <a:rPr b="0" i="1" lang="en-US" sz="3200" spc="-1" strike="noStrike">
                <a:solidFill>
                  <a:srgbClr val="00293f"/>
                </a:solidFill>
                <a:latin typeface="Arial"/>
              </a:rPr>
              <a:t>dream more, learn more, do more </a:t>
            </a:r>
            <a:br>
              <a:rPr sz="3200"/>
            </a:br>
            <a:r>
              <a:rPr b="0" i="1" lang="en-US" sz="3200" spc="-1" strike="noStrike">
                <a:solidFill>
                  <a:srgbClr val="00293f"/>
                </a:solidFill>
                <a:latin typeface="Arial"/>
              </a:rPr>
              <a:t>and become more, you are a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1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93f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293f"/>
                </a:solidFill>
                <a:latin typeface="Arial"/>
              </a:rPr>
              <a:t>John Quincy Adams, Sixth U.S. 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8305920" y="6400800"/>
            <a:ext cx="3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75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21:19:02Z</dcterms:created>
  <dc:creator>Corey Smith</dc:creator>
  <dc:description/>
  <dc:language>en-US</dc:language>
  <cp:lastModifiedBy>Diana Helms</cp:lastModifiedBy>
  <cp:lastPrinted>2011-06-24T18:37:53Z</cp:lastPrinted>
  <dcterms:modified xsi:type="dcterms:W3CDTF">2011-06-24T18:38:41Z</dcterms:modified>
  <cp:revision>85</cp:revision>
  <dc:subject/>
  <dc:title>PowerPoint Presentation</dc:title>
</cp:coreProperties>
</file>