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2D2B-AB9A-48E5-8F50-6DD935078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D795-B3E1-41A4-9422-79ACDAF58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BEF2-1E29-4042-A8E3-04DD867A1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190E-1566-427C-9CEC-B7336B4B6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6322-2D41-4691-BB53-4EA3A51D6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5751-6755-4B03-B58F-31D455E11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EF3E-2F7C-4D7E-B39F-4F39FC567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CA91-4CDC-4399-ACAC-32FB61A3D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176920" y="3056040"/>
            <a:ext cx="47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adership Excellenc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685800" y="3665520"/>
            <a:ext cx="77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1629"/>
                </a:solidFill>
                <a:latin typeface="Arial"/>
                <a:ea typeface="Arial"/>
              </a:rPr>
              <a:t>Giving Effective Feedba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Feedback helps teams achieve goals, build confidence and pride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nd succeed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Feedback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87480" y="20109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 clear and concise objectiv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e team members’ per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immediate feedbac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ze positive per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Four Step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87480" y="20109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specifi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 for yoursel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since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phasize how actions affect the te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Giving Constructive Feedback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87480" y="20109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he “I” techniqu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 on a positive no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ze improve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Giving Constructive Feedback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87480" y="20109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specifi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ress your appr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courage more of the sa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Recognize Positive Performanc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293f"/>
                </a:solidFill>
                <a:latin typeface="Arial"/>
              </a:rPr>
              <a:t>Meaningful feedback </a:t>
            </a:r>
            <a:br>
              <a:rPr sz="3600"/>
            </a:br>
            <a:r>
              <a:rPr b="0" i="1" lang="en-US" sz="3600" spc="-1" strike="noStrike">
                <a:solidFill>
                  <a:srgbClr val="00293f"/>
                </a:solidFill>
                <a:latin typeface="Arial"/>
              </a:rPr>
              <a:t>reinforces outstanding </a:t>
            </a:r>
            <a:br>
              <a:rPr sz="3600"/>
            </a:br>
            <a:r>
              <a:rPr b="0" i="1" lang="en-US" sz="3600" spc="-1" strike="noStrike">
                <a:solidFill>
                  <a:srgbClr val="00293f"/>
                </a:solidFill>
                <a:latin typeface="Arial"/>
              </a:rPr>
              <a:t>performance and encourages </a:t>
            </a:r>
            <a:br>
              <a:rPr sz="3600"/>
            </a:br>
            <a:r>
              <a:rPr b="0" i="1" lang="en-US" sz="3600" spc="-1" strike="noStrike">
                <a:solidFill>
                  <a:srgbClr val="00293f"/>
                </a:solidFill>
                <a:latin typeface="Arial"/>
              </a:rPr>
              <a:t>others to impro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7:54:19Z</dcterms:created>
  <dc:creator>Corey Smith</dc:creator>
  <dc:description/>
  <dc:language>en-US</dc:language>
  <cp:lastModifiedBy>Diana Helms</cp:lastModifiedBy>
  <cp:lastPrinted>2011-06-24T17:58:40Z</cp:lastPrinted>
  <dcterms:modified xsi:type="dcterms:W3CDTF">2011-06-24T18:07:54Z</dcterms:modified>
  <cp:revision>75</cp:revision>
  <dc:subject/>
  <dc:title>PowerPoint Presentation</dc:title>
</cp:coreProperties>
</file>