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89C-078A-45A0-8EF6-0CDC1CBB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7443-55A6-4307-B4FA-8D2624FF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C3C0-678F-4DBC-AFB6-8ED17904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4F7-F94F-47C1-AA58-A91BFDAA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87EE-52BC-4C48-A440-7DEBE254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465-1A7E-4C62-BB63-5B1806D5E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CDC-57C9-4DC8-98B6-7C636BDD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D53-0B4A-46FC-AECE-DF57686F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895F-87B9-4969-B0B3-E0EBE8F3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599-D6D9-4119-96FF-399838C61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122920" y="3665520"/>
            <a:ext cx="48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Building a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variety of knowledge and skills to accomplish the organization’s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creativity and greater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rporate benef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ime to devote to leadership issues and the organization’s 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less time on day-to-day supervision and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 a lea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a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roles and respon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9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team tr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Organizing the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success of a leader depends upon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bility to share power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others and let them direct their own work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mpower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50920" y="2590920"/>
            <a:ext cx="69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lding effective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rain the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270080" y="2023920"/>
            <a:ext cx="68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in and practice teamwork concep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50920" y="2590920"/>
            <a:ext cx="69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mor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take r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cy in resolving disagre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83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oster Communic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270080" y="2023920"/>
            <a:ext cx="688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results of open communic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own Arrow 11"/>
          <p:cNvSpPr/>
          <p:nvPr/>
        </p:nvSpPr>
        <p:spPr>
          <a:xfrm>
            <a:off x="4389480" y="234648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0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Leader’s Changing Rol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600200" y="25909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upervi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600200" y="32767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solver / Facilit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600200" y="48769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ni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00200" y="5638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ecogni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00200" y="41148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a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own Arrow 22"/>
          <p:cNvSpPr/>
          <p:nvPr/>
        </p:nvSpPr>
        <p:spPr>
          <a:xfrm>
            <a:off x="4389480" y="3078000"/>
            <a:ext cx="365040" cy="381240"/>
          </a:xfrm>
          <a:prstGeom prst="down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own Arrow 23"/>
          <p:cNvSpPr/>
          <p:nvPr/>
        </p:nvSpPr>
        <p:spPr>
          <a:xfrm>
            <a:off x="4389480" y="388620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Down Arrow 24"/>
          <p:cNvSpPr/>
          <p:nvPr/>
        </p:nvSpPr>
        <p:spPr>
          <a:xfrm>
            <a:off x="4389480" y="4648320"/>
            <a:ext cx="365040" cy="380880"/>
          </a:xfrm>
          <a:prstGeom prst="down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Down Arrow 25"/>
          <p:cNvSpPr/>
          <p:nvPr/>
        </p:nvSpPr>
        <p:spPr>
          <a:xfrm>
            <a:off x="4389480" y="5425920"/>
            <a:ext cx="365040" cy="381240"/>
          </a:xfrm>
          <a:prstGeom prst="down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dddddd"/>
              </a:gs>
              <a:gs pos="100000">
                <a:srgbClr val="5d7b9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0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828800" y="274320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lecting Careful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62320" y="28195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rganizing a tea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362320" y="35812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rain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362320" y="4419720"/>
            <a:ext cx="5943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ew levels of growth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d achieve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28800" y="358128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828800" y="4343400"/>
            <a:ext cx="40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11"/>
          <p:cNvSpPr/>
          <p:nvPr/>
        </p:nvSpPr>
        <p:spPr>
          <a:xfrm>
            <a:off x="1828800" y="4341960"/>
            <a:ext cx="5181480" cy="1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5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5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5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75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25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7:12:55Z</dcterms:created>
  <dc:creator>Corey Smith</dc:creator>
  <dc:description/>
  <dc:language>en-US</dc:language>
  <cp:lastModifiedBy>Diana Helms</cp:lastModifiedBy>
  <cp:lastPrinted>2011-06-24T17:32:20Z</cp:lastPrinted>
  <dcterms:modified xsi:type="dcterms:W3CDTF">2011-06-24T17:45:51Z</dcterms:modified>
  <cp:revision>92</cp:revision>
  <dc:subject/>
  <dc:title>PowerPoint Presentation</dc:title>
</cp:coreProperties>
</file>