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4158-A7D7-4E02-90D0-4839EA07C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9E35-43A8-409E-8FC8-97610C0F3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B828-4E86-48DC-A1C9-F01C3FB0B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3F4F-6508-4CDB-A242-E5D1AB658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3A11-0FD7-4779-8203-9797B597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9DDE-9A2D-4988-A302-C3BD058D7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3521-69D3-440E-A9DF-4BD7A6661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98E9-71C9-485C-A3A8-3941C182B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378080" y="3665520"/>
            <a:ext cx="63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Delegate to Em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65530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39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cess of transferring the responsibility for a specific activity or task from one person to another and empowering that individual to accomplish a specific go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65530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conf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fish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uc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arriers to 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7086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orit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1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ch needs to availability and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21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21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tiv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21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ive Steps of 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7086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15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cribe task and expect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15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Aft>
                <a:spcPts val="1500"/>
              </a:spcAft>
              <a:buClr>
                <a:srgbClr val="92a4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re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8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ower/grant auth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8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ive Steps of 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90360" y="2013120"/>
            <a:ext cx="7086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ore involved and empowered work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productivity and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inno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er commitment from t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 of Delegat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1143000" y="22096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Never tell people how to do things.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Tell them what to do and they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  <a:ea typeface="Arial"/>
              </a:rPr>
              <a:t>will surprise you with their ingenu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93f"/>
                </a:solidFill>
                <a:latin typeface="Arial"/>
                <a:ea typeface="Arial"/>
              </a:rPr>
              <a:t>– </a:t>
            </a:r>
            <a:r>
              <a:rPr b="0" lang="en-US" sz="2500" spc="-1" strike="noStrike">
                <a:solidFill>
                  <a:srgbClr val="00293f"/>
                </a:solidFill>
                <a:latin typeface="Arial"/>
                <a:ea typeface="Arial"/>
              </a:rPr>
              <a:t>General George Smith Patton, Jr.,</a:t>
            </a:r>
            <a:br>
              <a:rPr sz="2500"/>
            </a:br>
            <a:r>
              <a:rPr b="0" lang="en-US" sz="2500" spc="-1" strike="noStrike">
                <a:solidFill>
                  <a:srgbClr val="00293f"/>
                </a:solidFill>
                <a:latin typeface="Arial"/>
                <a:ea typeface="Arial"/>
              </a:rPr>
              <a:t>United States Army offic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Empower Your Team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0:31:01Z</dcterms:created>
  <dc:creator>Corey Smith</dc:creator>
  <dc:description/>
  <dc:language>en-US</dc:language>
  <cp:lastModifiedBy>Diana Helms</cp:lastModifiedBy>
  <cp:lastPrinted>2011-06-22T20:31:46Z</cp:lastPrinted>
  <dcterms:modified xsi:type="dcterms:W3CDTF">2011-06-24T17:10:11Z</dcterms:modified>
  <cp:revision>73</cp:revision>
  <dc:subject/>
  <dc:title>PowerPoint Presentation</dc:title>
</cp:coreProperties>
</file>