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68D7-E773-4510-94BD-03E25FFB4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1F7C-3DB9-4396-A9F2-EA875F72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C771-7EB6-47B1-A4D6-C11F0F701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37E0-E7AA-44B3-84B9-149DA2AD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9A60-4323-4FD3-9C09-55271114F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BC39-9C91-49FE-917F-4730F92A6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61C4-748B-4E71-A5E3-FB6E7D26F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3CB7-1A3B-4BA2-AA51-C060AF6E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2A26-2341-4775-A784-3EAAE3AD4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012C-0C66-4D8E-9B13-DE3EEE93F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5B1D-0F00-4B46-A147-866112B25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686160" y="3665520"/>
            <a:ext cx="77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Goal Setting and Plan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al setting + planning =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uccessful lea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goal is 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pecific objectiv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you and your team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ust achiev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5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75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plan i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blueprint for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chieving these goa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5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5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ab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on-orient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st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-boun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haracteristics of Goal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olve team members in setting goa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each goa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what you must do to achieve i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ularly review progr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Implementing Goal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inforces goa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s leaders more future-orient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es leaders to coordinate decis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sures efficient use of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Planning Proces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lanning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Establish strateg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Set a timetab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Assign responsibilit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Anticipate obstac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Modify the plan as necess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ive Steps to Planning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rcise creative abil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problem-solving skil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commitment to achiev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stablished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Involve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270080" y="2023920"/>
            <a:ext cx="718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articipation allows team members t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DCP enables th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ub to establish goals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nd develop a plan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o achieve them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he Distinguished Club Program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6:14:38Z</dcterms:created>
  <dc:creator>Corey Smith</dc:creator>
  <dc:description/>
  <dc:language>en-US</dc:language>
  <cp:lastModifiedBy>Diana Helms</cp:lastModifiedBy>
  <cp:lastPrinted>2011-06-24T16:59:40Z</cp:lastPrinted>
  <dcterms:modified xsi:type="dcterms:W3CDTF">2011-06-24T17:05:08Z</dcterms:modified>
  <cp:revision>67</cp:revision>
  <dc:subject/>
  <dc:title>PowerPoint Presentation</dc:title>
</cp:coreProperties>
</file>