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8F89-C243-456A-AEF5-AB19C07CD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CC92-8A84-463F-99A1-E5D7AFFC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0D01-D3C7-4F7A-B4B6-7BC4BAE4F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85D6-B88F-4CD8-9EC5-3480BD4CF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A5CA-2C6F-4FA6-9126-0F39FB426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1CDD-CFF2-46FF-A5CC-313A42ECE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EDDF-C608-43EC-B288-B8DB8B6AB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0B1A-F768-4EBB-BF22-DD0884A4C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DDE1-B696-42EA-B071-402CDE575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395360" y="3665520"/>
            <a:ext cx="63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The Visionary 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vision is a mental pictur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of what an organization aspires to becom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What Is a Vision?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 general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context for decision m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ects an organization’s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ects working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Purpose of a Vision Stat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vision state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93760" y="2895480"/>
            <a:ext cx="3124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lle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101556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haracteristics of a </a:t>
            </a:r>
            <a:br>
              <a:rPr sz="3600"/>
            </a:b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ision Stat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495680" y="2971800"/>
            <a:ext cx="41911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-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commun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252440" y="2201760"/>
            <a:ext cx="47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Vision statements a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he organization do 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most important thing the organization wants to 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makes the organization uniqu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speci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he team expect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rgan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makes the team feel good abou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rgan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rafting a Vision Stat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3520" y="266688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130000"/>
              </a:lnSpc>
              <a:spcBef>
                <a:spcPts val="90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ngness to achieve th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Bef>
                <a:spcPts val="90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 their own 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Bef>
                <a:spcPts val="90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sters cooperation and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rafting a Vision Stat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633680" y="1947960"/>
            <a:ext cx="474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volve Team Mem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20480" y="2590920"/>
            <a:ext cx="6527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130000"/>
              </a:lnSpc>
              <a:spcAft>
                <a:spcPts val="47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about the vision all th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47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it will benefit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47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enthusias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47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that you mean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mmunicating a Vi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414440" y="1947960"/>
            <a:ext cx="78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elp the Team Embrace the Vi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If you want to build a ship,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don’t drum up people to collect wood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and don’t assign them tasks and work,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but rather teach them to long for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the endless immensity of th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Antoine de Saint-Exup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9:10:17Z</dcterms:created>
  <dc:creator>Corey Smith</dc:creator>
  <dc:description/>
  <dc:language>en-US</dc:language>
  <cp:lastModifiedBy>Diana Helms</cp:lastModifiedBy>
  <cp:lastPrinted>2011-06-24T16:06:27Z</cp:lastPrinted>
  <dcterms:modified xsi:type="dcterms:W3CDTF">2011-06-24T16:13:44Z</dcterms:modified>
  <cp:revision>63</cp:revision>
  <dc:subject/>
  <dc:title>PowerPoint Presentation</dc:title>
</cp:coreProperties>
</file>