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7EEC-E8A0-4EA2-913B-0515E6F1D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5966-E6E7-4355-83F9-87718939F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E36E-37DF-45EF-9CD3-6E0A5E7B9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A0E1-3A8D-4FA1-91CC-8946D77C3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2260-C379-4143-8A23-C2BB94123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E827-5BEE-4DCC-A10C-09C65937E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F8C9-30F6-4EA7-8324-7CED1448F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0A45-96B8-417D-AEB9-85AAEA4FC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975A-5810-4DAD-B44A-E019DFCFD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D52A-193F-4176-A130-89DF2E387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CED3-0CA5-466F-AA30-DCE3A8E00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0A52-625E-4CF4-8C81-7ECD56E46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Using Body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ree Categories of </a:t>
            </a:r>
            <a:br>
              <a:rPr sz="4000"/>
            </a:b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Body Langu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3400" y="26150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le Body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acial Expres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11800" y="2139840"/>
            <a:ext cx="4739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ey to the meaning behind a mess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aci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85560" y="218844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273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d222c"/>
                </a:solidFill>
                <a:latin typeface="Arial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73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impression of personal contact to everyone in the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Ges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12920" y="219420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ree Types of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ole Body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94560" y="277488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xed and balan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y your speaking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22400" y="204372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nd Fri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29760" y="2293920"/>
            <a:ext cx="58842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"The language of the body is the key that can unlock the soul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Konstantin Stanislavsky, </a:t>
            </a:r>
            <a:r>
              <a:rPr b="0" lang="en-US" sz="2400" spc="-1" strike="noStrike">
                <a:solidFill>
                  <a:srgbClr val="cd222c"/>
                </a:solidFill>
                <a:latin typeface="Arial"/>
              </a:rPr>
              <a:t>developed the method theory of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5</TotalTime>
  <Application>LibreOffice/7.4.7.2$Linux_X86_64 LibreOffice_project/40$Build-2</Application>
  <AppVersion>15.0000</AppVersion>
  <Words>107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9:10:32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9:27:1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