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7C18B-B528-48CC-9FE9-A028CCD420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12A89-0E24-495C-9E2E-1C870BC350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65B77-9090-4904-AF44-1D3F8E0D02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EDBB7-3EDB-407D-A030-2257910F7DF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A257A-0CFC-43A5-9928-D08BE50A6C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397BC-E5A0-4006-82D2-9F3126D728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5DD2E-58FF-46EC-B39B-0FC632E442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27E15-FA78-482B-943F-8CD1921409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167560" y="935280"/>
            <a:ext cx="618408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52B30-6C0B-487F-8B90-B8B2DCCC77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74813-3468-4F61-86D8-3631F8E18B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80224-CC76-4541-B6F2-AC15DDC15B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2D900-E816-4292-B890-1C78598677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ppt pg bkgd-1.png"/>
          <p:cNvPicPr/>
          <p:nvPr/>
        </p:nvPicPr>
        <p:blipFill>
          <a:blip r:embed="rId2"/>
          <a:stretch/>
        </p:blipFill>
        <p:spPr>
          <a:xfrm>
            <a:off x="3960" y="0"/>
            <a:ext cx="9135720" cy="6857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1e3657"/>
                </a:solidFill>
                <a:latin typeface="Arial Bold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5" descr="ppt pg bkgd-2.png"/>
          <p:cNvPicPr/>
          <p:nvPr/>
        </p:nvPicPr>
        <p:blipFill>
          <a:blip r:embed="rId1"/>
          <a:stretch/>
        </p:blipFill>
        <p:spPr>
          <a:xfrm>
            <a:off x="3960" y="0"/>
            <a:ext cx="9135720" cy="6857640"/>
          </a:xfrm>
          <a:prstGeom prst="rect">
            <a:avLst/>
          </a:prstGeom>
          <a:ln w="0">
            <a:noFill/>
          </a:ln>
        </p:spPr>
      </p:pic>
      <p:sp>
        <p:nvSpPr>
          <p:cNvPr id="41" name="TextBox 6"/>
          <p:cNvSpPr/>
          <p:nvPr/>
        </p:nvSpPr>
        <p:spPr>
          <a:xfrm>
            <a:off x="4070520" y="1547640"/>
            <a:ext cx="412920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800" spc="-1" strike="noStrike">
                <a:solidFill>
                  <a:srgbClr val="ffffff"/>
                </a:solidFill>
                <a:latin typeface="Arial Bold"/>
              </a:rPr>
              <a:t>Preparation and Practic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4126680" y="3406320"/>
            <a:ext cx="41292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8f087"/>
                </a:solidFill>
                <a:latin typeface="Arial"/>
              </a:rPr>
              <a:t>The Better Speaker S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428760" y="6391080"/>
            <a:ext cx="774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bfbfbf"/>
                </a:solidFill>
                <a:latin typeface="Arial"/>
              </a:rPr>
              <a:t>2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5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1e3657"/>
                </a:solidFill>
                <a:latin typeface="Arial Bold"/>
              </a:rPr>
              <a:t>Extra Conside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094840" y="2194200"/>
            <a:ext cx="6184080" cy="295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vide an introduc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 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pare yourself physicall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 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ve a mental rehearsal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10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1e3657"/>
                </a:solidFill>
                <a:latin typeface="Arial Bold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167560" y="2856240"/>
            <a:ext cx="5661360" cy="295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1" i="1" lang="en-US" sz="3600" spc="-1" strike="noStrike">
                <a:solidFill>
                  <a:srgbClr val="cd222c"/>
                </a:solidFill>
                <a:latin typeface="Arial"/>
              </a:rPr>
              <a:t>Good luck happens</a:t>
            </a:r>
            <a:br>
              <a:rPr sz="3600"/>
            </a:br>
            <a:r>
              <a:rPr b="1" i="1" lang="en-US" sz="3600" spc="-1" strike="noStrike">
                <a:solidFill>
                  <a:srgbClr val="cd222c"/>
                </a:solidFill>
                <a:latin typeface="Arial"/>
              </a:rPr>
              <a:t>when preparedness</a:t>
            </a:r>
            <a:br>
              <a:rPr sz="3600"/>
            </a:br>
            <a:r>
              <a:rPr b="1" i="1" lang="en-US" sz="3600" spc="-1" strike="noStrike">
                <a:solidFill>
                  <a:srgbClr val="cd222c"/>
                </a:solidFill>
                <a:latin typeface="Arial"/>
              </a:rPr>
              <a:t>meets opportunity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cd222c"/>
                </a:solidFill>
                <a:latin typeface="Arial"/>
              </a:rPr>
              <a:t>                         – </a:t>
            </a:r>
            <a:r>
              <a:rPr b="0" lang="en-US" sz="3200" spc="-1" strike="noStrike">
                <a:solidFill>
                  <a:srgbClr val="cd222c"/>
                </a:solidFill>
                <a:latin typeface="Arial"/>
              </a:rPr>
              <a:t>An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sldNum" idx="11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5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50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2167560" y="2148840"/>
            <a:ext cx="5661360" cy="295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</a:tabLst>
            </a:pPr>
            <a:r>
              <a:rPr b="1" lang="en-US" sz="4000" spc="-1" strike="noStrike">
                <a:solidFill>
                  <a:srgbClr val="cd222c"/>
                </a:solidFill>
                <a:latin typeface="Arial"/>
              </a:rPr>
              <a:t>Preparation</a:t>
            </a:r>
            <a:br>
              <a:rPr sz="4000"/>
            </a:br>
            <a:r>
              <a:rPr b="1" lang="en-US" sz="4000" spc="-1" strike="noStrike">
                <a:solidFill>
                  <a:srgbClr val="cd222c"/>
                </a:solidFill>
                <a:latin typeface="Arial"/>
              </a:rPr>
              <a:t>and practice lead</a:t>
            </a:r>
            <a:br>
              <a:rPr sz="4000"/>
            </a:br>
            <a:r>
              <a:rPr b="1" lang="en-US" sz="4000" spc="-1" strike="noStrike">
                <a:solidFill>
                  <a:srgbClr val="cd222c"/>
                </a:solidFill>
                <a:latin typeface="Arial"/>
              </a:rPr>
              <a:t>to excellenc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012400" y="890640"/>
            <a:ext cx="685800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1e3657"/>
                </a:solidFill>
                <a:latin typeface="Arial Bold"/>
              </a:rPr>
              <a:t>Become familiar wit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58400" y="2037240"/>
            <a:ext cx="5859000" cy="30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 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ctern and audience loca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 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crophone usag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 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oom condition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 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isual aid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1e3657"/>
                </a:solidFill>
                <a:latin typeface="Arial Bold"/>
              </a:rPr>
              <a:t>Become familiar wit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185560" y="2148840"/>
            <a:ext cx="6518880" cy="33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1321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en-US" sz="3000" spc="-1" strike="noStrike">
                <a:solidFill>
                  <a:srgbClr val="cd222c"/>
                </a:solidFill>
                <a:latin typeface="Arial"/>
              </a:rPr>
              <a:t>Lectern and Audience Lo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 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eaking are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 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udience configura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 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ge location of platform steps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r ram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1e3657"/>
                </a:solidFill>
                <a:latin typeface="Arial Bold"/>
              </a:rPr>
              <a:t>Become familiar wit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185560" y="2148840"/>
            <a:ext cx="6184080" cy="36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1321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en-US" sz="3000" spc="-1" strike="noStrike">
                <a:solidFill>
                  <a:srgbClr val="cd222c"/>
                </a:solidFill>
                <a:latin typeface="Arial"/>
              </a:rPr>
              <a:t>Microph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  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ups of 100+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 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udience over the age of 50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 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or acoust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 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ice strai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5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1e3657"/>
                </a:solidFill>
                <a:latin typeface="Arial Bold"/>
              </a:rPr>
              <a:t>Become familiar wit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2194560" y="2076480"/>
            <a:ext cx="6184080" cy="34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1321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en-US" sz="3000" spc="-1" strike="noStrike">
                <a:solidFill>
                  <a:srgbClr val="cd222c"/>
                </a:solidFill>
                <a:latin typeface="Arial"/>
              </a:rPr>
              <a:t>Room Condi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 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mperatur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 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ropriate light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 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creet entry for latecom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 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etitive outside nois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1e3657"/>
                </a:solidFill>
                <a:latin typeface="Arial Bold"/>
              </a:rPr>
              <a:t>Become familiar wit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2194560" y="2121840"/>
            <a:ext cx="6184080" cy="295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1321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en-US" sz="3000" spc="-1" strike="noStrike">
                <a:solidFill>
                  <a:srgbClr val="cd222c"/>
                </a:solidFill>
                <a:latin typeface="Arial"/>
              </a:rPr>
              <a:t>Visual Ai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  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cated where all can se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 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ropriately sized viewing scre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 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ndout distribu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Num" idx="7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1e3657"/>
                </a:solidFill>
                <a:latin typeface="Arial Bold"/>
              </a:rPr>
              <a:t>Rehearsing the Spee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2076840" y="2820240"/>
            <a:ext cx="6184080" cy="295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   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actice ideas, not word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 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pare a mental draft of the speech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 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nish each rehearsal session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sldNum" idx="8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1e3657"/>
                </a:solidFill>
                <a:latin typeface="Arial Bold"/>
              </a:rPr>
              <a:t>Improving Your Spee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2076840" y="2801880"/>
            <a:ext cx="6184080" cy="295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 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d improvements graduall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 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range for feedbac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Better Speaker 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Better Speaker template.potx</Template>
  <TotalTime>48</TotalTime>
  <Application>LibreOffice/7.4.7.2$Linux_X86_64 LibreOffice_project/40$Build-2</Application>
  <AppVersion>15.0000</AppVersion>
  <Words>194</Words>
  <Paragraphs>5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3T18:52:27Z</dcterms:created>
  <dc:creator>Lisa Lerma</dc:creator>
  <dc:description/>
  <dc:language>en-US</dc:language>
  <cp:lastModifiedBy>Diana Helms</cp:lastModifiedBy>
  <cp:lastPrinted>2011-06-23T00:33:11Z</cp:lastPrinted>
  <dcterms:modified xsi:type="dcterms:W3CDTF">2011-07-13T19:06:48Z</dcterms:modified>
  <cp:revision>1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11</vt:r8>
  </property>
</Properties>
</file>