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ECAF-5ABA-4132-AC4C-ADFEE365B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9288-99AA-4492-A759-E86FED9FC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71F6-3C08-416B-82F2-AFCEC2276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7672-8F3D-41D7-856E-7BEBE3FEA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C240-2A7E-4884-9D48-CF346B48B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4CC0-2C4A-44CB-954A-7D37E5C01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B727-B567-43B7-9370-BA8534F5F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1B13-B54E-4647-8C3C-F040D3659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0CEF-2891-4937-828B-97FEE22C4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72CB-4CE2-46C4-96E7-A6AF9E40D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1ADA-A7C7-4556-9C92-8E61798C2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3876-D755-4C7F-9368-5F54D3455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Creating an 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3856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67560" y="249840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Master 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the art of 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introduc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he Importance of an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21680" y="265464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ooth trans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mind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General Essent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62360" y="216648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’s na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op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i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oastmasters Essent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46160" y="221508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objectiv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Drafting the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70640" y="216648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pplying Restrai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06920" y="2031840"/>
            <a:ext cx="6469560" cy="43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upstage the speak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reveal speech detai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urprise the speak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praise the speaker’s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rely on cliché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ave the speaker’s name until l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Speakers’ Responsi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46160" y="2223360"/>
            <a:ext cx="581760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vailable to offer speech-related inform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 the introducer of any special consider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Lectern Etiquet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913760" y="2142000"/>
            <a:ext cx="581760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to the aud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 the appla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ke h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the lecte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inter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Introductions Are Only </a:t>
            </a:r>
            <a:br>
              <a:rPr sz="4000"/>
            </a:b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he Begi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37880" y="2654640"/>
            <a:ext cx="669132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peech’s ide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of entertai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 speech helped or enlightened the aud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s of thanks and appreci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4</TotalTime>
  <Application>LibreOffice/7.4.7.2$Linux_X86_64 LibreOffice_project/40$Build-2</Application>
  <AppVersion>15.0000</AppVersion>
  <Words>157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34:14Z</dcterms:created>
  <dc:creator>Lisa Lerma</dc:creator>
  <dc:description/>
  <dc:language>en-US</dc:language>
  <cp:lastModifiedBy>Diana Helms</cp:lastModifiedBy>
  <cp:lastPrinted>2011-05-09T21:08:52Z</cp:lastPrinted>
  <dcterms:modified xsi:type="dcterms:W3CDTF">2011-07-13T18:49:58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