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4382-321D-4362-94A5-B8B06AB4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A22F-5CF8-4FF0-A93D-DB3431B73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19F0-9E89-424F-96F7-D3380AFFA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E003-D35B-4364-B3D1-4936188CE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7F99-98EB-4654-A995-E4E54BD05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7CC3-5694-4749-9237-6D55951A9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870D-33D3-4185-BB97-C5797345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A769-F76C-442D-9109-09ADE00D9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0F8-C865-42E8-9A68-2F149347E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EC71-25DE-4719-9549-D61FA2029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17F9-F460-4111-A096-0B93927D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00B4-F19F-49EF-B802-8F61B5023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Know Your Aud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09032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udience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3400" y="2115720"/>
            <a:ext cx="6691320" cy="39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ran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/ female rati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pational and economic stat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backgrou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ori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isure activ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the Audience’s Atten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3400" y="2594520"/>
            <a:ext cx="6221520" cy="36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acou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side no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ossible dist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the Audience’s Atten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1400" y="2705760"/>
            <a:ext cx="5515920" cy="29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of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events/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s for lengthy 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pproaching the Audi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13400" y="2149920"/>
            <a:ext cx="600552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audience already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n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local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 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with another presenter or an actual 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ommon Speech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031480" y="2660400"/>
            <a:ext cx="6402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Fulfill the Audience’s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31480" y="2043720"/>
            <a:ext cx="638892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Advanc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v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-friendly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53</TotalTime>
  <Application>LibreOffice/7.4.7.2$Linux_X86_64 LibreOffice_project/40$Build-2</Application>
  <AppVersion>15.0000</AppVersion>
  <Words>109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28:31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7:52:3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