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4151-7808-4771-9536-E22DE0DFA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6C4C-EE94-4CA2-A2C7-00948B0C5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C49C-435A-4EA4-960F-82F90F3FA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6F51-4880-4046-A26C-61E8B1A23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C717-4815-40D7-BF92-8C01D4C34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8E37-4D6A-447E-9854-4AE4864DA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61F9-B193-40E4-BF44-5CB5F32B8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FFA1-FAC9-4CBA-B583-650F0CAD2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D73A-0702-4FCD-A47C-E6D529574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F6E0-B99E-492B-8E2D-6C6B3AF8E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FE0E-1B0D-4C51-91B6-BB7AE3F68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B78F-C2B6-49FF-9BEE-49EB84AED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Selecting Your Top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1768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Two 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94560" y="2248560"/>
            <a:ext cx="61840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Personal 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Two 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194560" y="2284920"/>
            <a:ext cx="61840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Reference Mate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gaz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Get Inspi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67280" y="2632680"/>
            <a:ext cx="520740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Write it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22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Narrow Your S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31480" y="2116080"/>
            <a:ext cx="6886800" cy="37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Your Aud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peopl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rang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r with the subject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ilar education, interests, backgrounds, and experience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Narrow Your S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013120" y="2161440"/>
            <a:ext cx="6886800" cy="37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The Occa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the event have a the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re you scheduled to spea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will happen after your spee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Narrow Your S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13120" y="2225160"/>
            <a:ext cx="6886800" cy="37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Your Own A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husiasm and inter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you an authorit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Narrow Your S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022120" y="2134440"/>
            <a:ext cx="6211440" cy="37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Be Specif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topic specific enough for the time allott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the sub-points support the topic and add to the spee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can be cut from the body of the spee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51560" y="2484360"/>
            <a:ext cx="8092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d222c"/>
                </a:solidFill>
                <a:latin typeface="Arial"/>
              </a:rPr>
              <a:t>Personal Experience + </a:t>
            </a:r>
            <a:br>
              <a:rPr sz="3600"/>
            </a:br>
            <a:r>
              <a:rPr b="1" lang="en-US" sz="3600" spc="-1" strike="noStrike">
                <a:solidFill>
                  <a:srgbClr val="cd222c"/>
                </a:solidFill>
                <a:latin typeface="Arial"/>
              </a:rPr>
              <a:t>Resources + </a:t>
            </a:r>
            <a:br>
              <a:rPr sz="3600"/>
            </a:br>
            <a:r>
              <a:rPr b="1" lang="en-US" sz="3600" spc="-1" strike="noStrike">
                <a:solidFill>
                  <a:srgbClr val="cd222c"/>
                </a:solidFill>
                <a:latin typeface="Arial"/>
              </a:rPr>
              <a:t>Consideration = </a:t>
            </a:r>
            <a:br>
              <a:rPr sz="3600"/>
            </a:br>
            <a:r>
              <a:rPr b="1" lang="en-US" sz="3600" spc="-1" strike="noStrike">
                <a:solidFill>
                  <a:srgbClr val="cd222c"/>
                </a:solidFill>
                <a:latin typeface="Arial"/>
              </a:rPr>
              <a:t>An Excellent Speech Topi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44</TotalTime>
  <Application>LibreOffice/7.4.7.2$Linux_X86_64 LibreOffice_project/40$Build-2</Application>
  <AppVersion>15.0000</AppVersion>
  <Words>163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7:11:57Z</dcterms:created>
  <dc:creator>Lisa Lerma</dc:creator>
  <dc:description/>
  <dc:language>en-US</dc:language>
  <cp:lastModifiedBy>Diana Helms</cp:lastModifiedBy>
  <cp:lastPrinted>2011-06-22T20:59:19Z</cp:lastPrinted>
  <dcterms:modified xsi:type="dcterms:W3CDTF">2011-07-13T17:25:55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