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24C0D-2083-41F5-989B-DAFA7A634F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CA423-CC1A-4760-A4D6-8B93044FED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5067C-905C-430F-A5B4-338C5CA33C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600AA-6B8B-4FD8-8CB0-E2CFDD0309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63CA6-CF95-4034-9ED7-023BBDA891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F431F-3CC1-471F-8D7B-A82F3CE7FC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DCDE2-2F3B-47E4-93F8-43059CB1AA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EBAE9-F70C-4C2C-9B56-D5139829C3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167560" y="935280"/>
            <a:ext cx="618408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D9644-A296-4552-87F0-66186A841C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039B4-3A0B-488C-9091-BB9386B918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BC5D4-4791-41EC-A82A-DCD7DE5909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F5CD0-92BF-4A6B-9DDD-FBA5A457C8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ppt pg bkgd-1.png"/>
          <p:cNvPicPr/>
          <p:nvPr/>
        </p:nvPicPr>
        <p:blipFill>
          <a:blip r:embed="rId2"/>
          <a:stretch/>
        </p:blipFill>
        <p:spPr>
          <a:xfrm>
            <a:off x="3960" y="0"/>
            <a:ext cx="913572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" descr="ppt pg bkgd-2.png"/>
          <p:cNvPicPr/>
          <p:nvPr/>
        </p:nvPicPr>
        <p:blipFill>
          <a:blip r:embed="rId1"/>
          <a:stretch/>
        </p:blipFill>
        <p:spPr>
          <a:xfrm>
            <a:off x="3960" y="0"/>
            <a:ext cx="9135720" cy="6857640"/>
          </a:xfrm>
          <a:prstGeom prst="rect">
            <a:avLst/>
          </a:prstGeom>
          <a:ln w="0">
            <a:noFill/>
          </a:ln>
        </p:spPr>
      </p:pic>
      <p:sp>
        <p:nvSpPr>
          <p:cNvPr id="41" name="TextBox 6"/>
          <p:cNvSpPr/>
          <p:nvPr/>
        </p:nvSpPr>
        <p:spPr>
          <a:xfrm>
            <a:off x="4070520" y="1547640"/>
            <a:ext cx="41292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Arial Bold"/>
              </a:rPr>
              <a:t>Impromptu Speak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4126680" y="3406320"/>
            <a:ext cx="4129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8f087"/>
                </a:solidFill>
                <a:latin typeface="Arial"/>
              </a:rPr>
              <a:t>The Better Speaker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428760" y="6391080"/>
            <a:ext cx="774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bfbfbf"/>
                </a:solidFill>
                <a:latin typeface="Arial"/>
              </a:rPr>
              <a:t>2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5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When Giving an Impromptu Talk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239920" y="2801880"/>
            <a:ext cx="5216400" cy="33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14440" indent="0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 List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Paus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Confirm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 Tel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. E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12400" y="890640"/>
            <a:ext cx="685800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Strateg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958760" y="2306520"/>
            <a:ext cx="6069240" cy="30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7760" indent="-347760">
              <a:lnSpc>
                <a:spcPct val="100000"/>
              </a:lnSpc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ress an opin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ress cause and eff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 the topic into compon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225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 the past, present,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futur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Whatever You D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176560" y="2284920"/>
            <a:ext cx="6184080" cy="29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14440" indent="0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Be confid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Be brie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Be sincer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Better Speaker 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Better Speaker template.potx</Template>
  <TotalTime>21</TotalTime>
  <Application>LibreOffice/7.4.7.2$Linux_X86_64 LibreOffice_project/40$Build-2</Application>
  <AppVersion>15.0000</AppVersion>
  <Words>70</Words>
  <Paragraphs>2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7:01:14Z</dcterms:created>
  <dc:creator>Lisa Lerma</dc:creator>
  <dc:description/>
  <dc:language>en-US</dc:language>
  <cp:lastModifiedBy>Diana Helms</cp:lastModifiedBy>
  <cp:lastPrinted>2011-06-21T20:51:59Z</cp:lastPrinted>
  <dcterms:modified xsi:type="dcterms:W3CDTF">2011-07-13T17:06:41Z</dcterms:modified>
  <cp:revision>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4</vt:r8>
  </property>
</Properties>
</file>