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FBBF-3DAC-458E-9DC3-21E0ACF01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7882-23DA-4036-89BA-EECDE9D82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25EF-700F-4C88-A54F-6237A5962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1F2F-F464-4CC2-91A5-B7807424B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00CE-5A5F-4C6D-8D63-8A0E35DB1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A78E-E87D-4739-BC99-15C4BE2B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2B6D-D82A-483B-B4ED-BBDD32F99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CE5A-6C3A-4AA5-962E-339AFE91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0438-1A4B-4D23-A58D-393EDCFCD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64E3-914D-471D-88FC-9E0AC58AB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012A-6A4C-46A9-82F9-896B00422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4182-FC45-4858-A9EC-E4CD24A8F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ontrolling Your F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17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nxiety Trigg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4400" y="222516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nd unknown situ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of fail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for appearing foolis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ibility of boring the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nxiety Symp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22400" y="227016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heart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terflies in the stom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ntrollable shak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headed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67560" y="1949400"/>
            <a:ext cx="6721920" cy="44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in front of a mirro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hearse in front of famil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rien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 a speech before your Toastmasters clu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presentations before other groups, anywhere you c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03560" y="213372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Visu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your thought processes to achieve positive res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Managing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76560" y="2230560"/>
            <a:ext cx="598212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lax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metric exerci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th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22200" y="2339280"/>
            <a:ext cx="6184080" cy="31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normal to feel nerv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audience won’t not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ethods to exhibit confid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  <Words>119</Words>
  <Paragraphs>37</Paragraphs>
  <Company>Toastmasters Internat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6:48:52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58:55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