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1E27C-D308-47DD-86F6-DF43783730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A9D9C-986B-4B7D-B941-3B684A2039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36932-D55A-49C7-B877-B63418576D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DC6A2-608F-4DE5-810F-AB81FB750F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4578B-6E80-4EEC-845C-371F158807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F3C17-A951-4D29-95F9-359FE3E9CB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F7F7E-2AD7-41DB-BD3F-C9B2E35CCF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3508C-6FAF-4E39-9F0F-D042B2EC4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167560" y="935280"/>
            <a:ext cx="618408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FDC79-0F5A-409E-B269-15608073FA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865D2-9873-4A82-925D-614A4022E0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78A11-C5D2-4751-A9C7-21609CB62D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29183-F775-489D-8AC7-3FD9FD4AF7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ppt pg bkgd-1.png"/>
          <p:cNvPicPr/>
          <p:nvPr/>
        </p:nvPicPr>
        <p:blipFill>
          <a:blip r:embed="rId2"/>
          <a:stretch/>
        </p:blipFill>
        <p:spPr>
          <a:xfrm>
            <a:off x="3960" y="0"/>
            <a:ext cx="913572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ppt pg bkgd-2.png"/>
          <p:cNvPicPr/>
          <p:nvPr/>
        </p:nvPicPr>
        <p:blipFill>
          <a:blip r:embed="rId1"/>
          <a:stretch/>
        </p:blipFill>
        <p:spPr>
          <a:xfrm>
            <a:off x="3960" y="0"/>
            <a:ext cx="9135720" cy="6857640"/>
          </a:xfrm>
          <a:prstGeom prst="rect">
            <a:avLst/>
          </a:prstGeom>
          <a:ln w="0">
            <a:noFill/>
          </a:ln>
        </p:spPr>
      </p:pic>
      <p:sp>
        <p:nvSpPr>
          <p:cNvPr id="41" name="TextBox 6"/>
          <p:cNvSpPr/>
          <p:nvPr/>
        </p:nvSpPr>
        <p:spPr>
          <a:xfrm>
            <a:off x="4070520" y="1547640"/>
            <a:ext cx="41292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Arial Bold"/>
              </a:rPr>
              <a:t>Concluding Your Spee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4129200" y="3406320"/>
            <a:ext cx="4129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8f087"/>
                </a:solidFill>
                <a:latin typeface="Arial"/>
              </a:rPr>
              <a:t>The Better Speaker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428760" y="6391080"/>
            <a:ext cx="774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bfbfbf"/>
                </a:solidFill>
                <a:latin typeface="Arial"/>
              </a:rPr>
              <a:t>2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5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167560" y="2303640"/>
            <a:ext cx="5661360" cy="29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1" i="1" lang="en-US" sz="3600" spc="-1" strike="noStrike">
                <a:solidFill>
                  <a:srgbClr val="cd222c"/>
                </a:solidFill>
                <a:latin typeface="Arial"/>
              </a:rPr>
              <a:t>"Great is the art of beginning, but greater is the art of ending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d222c"/>
                </a:solidFill>
                <a:latin typeface="Arial"/>
              </a:rPr>
              <a:t>– </a:t>
            </a:r>
            <a:r>
              <a:rPr b="1" lang="en-US" sz="3200" spc="-1" strike="noStrike">
                <a:solidFill>
                  <a:srgbClr val="cd222c"/>
                </a:solidFill>
                <a:latin typeface="Arial"/>
              </a:rPr>
              <a:t>Henry Wadsworth Longfe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10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Criteria for Successful Conclus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944360" y="2584800"/>
            <a:ext cx="6217200" cy="30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98520" indent="-39852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hieve a sense of cl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ke an impa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ke five to 10 percent of the entire speech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Clos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184480" y="2252160"/>
            <a:ext cx="6184080" cy="29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132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Use a quo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s autho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muses listen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amatize your spee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Clos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175840" y="2319840"/>
            <a:ext cx="6184080" cy="29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132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Tell a short story or anecdo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 quick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ke it shor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inforce your mess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Clos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184480" y="2280600"/>
            <a:ext cx="6070320" cy="29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Call for a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early explain what action the audience should tak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Clos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175840" y="2246760"/>
            <a:ext cx="5375880" cy="29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Ask a rhetorical ques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may ask, ‘Can we afford to do this?’ I ask, ‘Can we afford not to?’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5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Clos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184480" y="2272320"/>
            <a:ext cx="5570640" cy="29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132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Refer to the beginning of </a:t>
            </a:r>
            <a:br>
              <a:rPr sz="3000"/>
            </a:b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the spee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began my remarks by reviewing the challenges our company must confront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Clos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192760" y="2280600"/>
            <a:ext cx="6070320" cy="29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Summarize your main poi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etition reinforces your messag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 </a:t>
            </a: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Tips for Succ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012040" y="2246040"/>
            <a:ext cx="6886800" cy="30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morize your con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d on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rain from adding new poi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  <Words>186</Words>
  <Paragraphs>45</Paragraphs>
  <Company>Toastmasters International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6:25:46Z</dcterms:created>
  <dc:creator>Graphic user</dc:creator>
  <dc:description/>
  <dc:language>en-US</dc:language>
  <cp:lastModifiedBy>Diana Helms</cp:lastModifiedBy>
  <cp:lastPrinted>2011-05-09T21:08:52Z</cp:lastPrinted>
  <dcterms:modified xsi:type="dcterms:W3CDTF">2011-07-13T16:43:19Z</dcterms:modified>
  <cp:revision>2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0</vt:r8>
  </property>
</Properties>
</file>