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17EAB-30E5-49BE-9F03-A613ECF1D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342E0-E93A-48DE-87EC-6A2995929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8C7AB-C01F-4965-8AF9-8965BF54D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2CBD-746C-493B-BAB7-1AC1F95A7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81FC-251E-46F8-A628-ACF671605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FD0E-23C2-4A88-B91C-8A4955078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61C3-B141-48DE-A503-A53F4383E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17AE-72A6-4B14-8472-7BC74553FF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30B4-D133-4C10-852D-1603351C4E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A5F5-EF16-4D81-9CCB-27E057E985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047D-A534-4F1B-BA98-32F8467655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81D66-464B-426C-9A3F-001497E7B9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0AEE-943D-4C22-B478-75F969F0FF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BDF6-CA08-404D-977D-A5592D9304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052C-E321-4957-9161-9C9E65C40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0CC7-22CF-42B9-9002-8DFECC0747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4D81-2F2F-423E-B5C7-570742F81E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D9C5-7CCA-420C-9057-7A93FAF5BF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CB51-099A-444F-B53E-7B2E31ED87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830D-1587-4E9A-B77B-8DD409CC6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1F67-6833-445E-A8D4-1DE4C9EAB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6DD5-2589-47A9-B996-1718B5EDD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8DE9-8D25-4091-BAC9-26FFBE87C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ACFE-396B-4ECF-8EB5-CB5A3BA3E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9691-E716-44E9-B3CB-1CC95D8B7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D6BF-4A1A-48F7-AABC-98CBFC5D3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22CE-94BC-4AE4-ADD8-CC241AF38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233B5-B8D0-47FD-ACEE-202BA209D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6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7f7f7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ppt pg bkgd-2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4070520" y="1547640"/>
            <a:ext cx="412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  <a:ea typeface="Arial Bold"/>
              </a:rPr>
              <a:t>Beginning Your Spee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100400" y="3406680"/>
            <a:ext cx="41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  <a:ea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28760" y="6391440"/>
            <a:ext cx="77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  <a:ea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ther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141640" y="2328840"/>
            <a:ext cx="6184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dience particip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demons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reference to a historical ev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s to Avo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141640" y="2278080"/>
            <a:ext cx="59356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5280" indent="-395280"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oid acknowledging the amount of prepa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oid being dull and bo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oid delaying mention of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66840" y="2176200"/>
            <a:ext cx="56628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8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d222c"/>
                </a:solidFill>
                <a:latin typeface="Arial"/>
                <a:ea typeface="Arial"/>
              </a:rPr>
              <a:t>A dynamic beginning </a:t>
            </a:r>
            <a:br>
              <a:rPr sz="3600"/>
            </a:br>
            <a:r>
              <a:rPr b="1" lang="en-US" sz="3600" spc="-1" strike="noStrike">
                <a:solidFill>
                  <a:srgbClr val="cd222c"/>
                </a:solidFill>
                <a:latin typeface="Arial"/>
                <a:ea typeface="Arial"/>
              </a:rPr>
              <a:t>is essential for a successful speech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13120" y="89028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  <a:ea typeface="Arial Bold"/>
              </a:rPr>
              <a:t>Criteria for a Successful Ope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31760" y="2653920"/>
            <a:ext cx="68878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8520" indent="-398520">
              <a:lnSpc>
                <a:spcPct val="100000"/>
              </a:lnSpc>
              <a:spcBef>
                <a:spcPts val="1276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et the attention of the audi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100000"/>
              </a:lnSpc>
              <a:spcBef>
                <a:spcPts val="1276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troduce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100000"/>
              </a:lnSpc>
              <a:spcBef>
                <a:spcPts val="1276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stablish ra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100000"/>
              </a:lnSpc>
              <a:spcBef>
                <a:spcPts val="1276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ake less than five to 10 percent of the entire speech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93480" y="2236680"/>
            <a:ext cx="51800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State the importance of your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ll your listeners why the topic is important to th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84120" y="2276280"/>
            <a:ext cx="603396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Make a startling stat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moking kills! More Americans die each year than were killed in battle during World War II and Vietnam together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76200" y="2212560"/>
            <a:ext cx="577836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Arouse suspense or curio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e a series of statements related to the topic that would pique your listeners’ intere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84480" y="2239920"/>
            <a:ext cx="55339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Tell a story or anecdo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y brother and I went hunting last week in the woods behind my house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84480" y="2303280"/>
            <a:ext cx="61848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Ask a rhetorical ques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o you know what to do if your child begins to choke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201760" y="2277720"/>
            <a:ext cx="618336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Begin with a quotati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quotation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dd authority to a spe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muse the audi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ramatize a speech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1760" y="2387520"/>
            <a:ext cx="59263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Reference the occ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t allows the speaker to recognize an unusual or important event and establish a common interest with the audie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5:06:17Z</dcterms:created>
  <dc:creator>Graphic user</dc:creator>
  <dc:description/>
  <dc:language>en-US</dc:language>
  <cp:lastModifiedBy>Diana Helms</cp:lastModifiedBy>
  <cp:lastPrinted>2011-05-09T21:08:52Z</cp:lastPrinted>
  <dcterms:modified xsi:type="dcterms:W3CDTF">2011-07-13T16:16:39Z</dcterms:modified>
  <cp:revision>14</cp:revision>
  <dc:subject/>
  <dc:title>Slide 1</dc:title>
</cp:coreProperties>
</file>