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0692-681F-40F2-AC48-9640E0FA8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74A4-9D0E-42CE-8C10-D7247781A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9663-D1C1-4BEB-9970-03A342605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EF75-3003-4C05-BA77-BE977CB33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59E3-BEC5-42C8-94B0-848D231A1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5B96-51D9-4132-BC8E-CB7781085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D3B8-4502-450A-9BA6-E0D77BC5E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255A-74B4-4070-8E48-A8297238C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AE66-631D-43EA-AD53-5987CC381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F827-014B-462D-8E1C-AC2E08085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C79C-5E36-459C-B103-DE3263146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32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176920" y="3056040"/>
            <a:ext cx="479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Leadership Excellenc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1802520" y="3665520"/>
            <a:ext cx="552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1629"/>
                </a:solidFill>
                <a:latin typeface="Arial"/>
                <a:ea typeface="Arial"/>
              </a:rPr>
              <a:t>Resolving Conflic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236196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293f"/>
                </a:solidFill>
                <a:latin typeface="Arial"/>
              </a:rPr>
              <a:t>A leader must</a:t>
            </a:r>
            <a:br>
              <a:rPr sz="4200"/>
            </a:br>
            <a:r>
              <a:rPr b="0" i="1" lang="en-US" sz="4200" spc="-1" strike="noStrike">
                <a:solidFill>
                  <a:srgbClr val="00293f"/>
                </a:solidFill>
                <a:latin typeface="Arial"/>
              </a:rPr>
              <a:t>resolve conflict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8305920" y="640080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flict is what you get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en two or more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eople have differences,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real or perceived, that are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ot resolved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Definitions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5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25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75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25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flict resolution is what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e do to identify and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dress conflict in a mature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nd respectful way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Definitions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5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25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75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66680" y="2013120"/>
            <a:ext cx="77724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Contentious Personaliti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Misunderstand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Issu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 Styles of Leadershi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Types of Conflict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66680" y="2013120"/>
            <a:ext cx="77724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Ignore i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Smooth it ov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For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 Compromis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. Collabo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Methods for Resolving Conflict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066680" y="2013120"/>
            <a:ext cx="77724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Find the root caus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Allow all parties to spea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Facilitate Collaboration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5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990720" y="266652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6440" indent="-40644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not allow emotion to consume the parties involve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ep a respectful, empathetic, and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ing attitude toward everyon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y away from blame and accusation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Facilitate Collaboration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1117440" y="2023920"/>
            <a:ext cx="403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 Word of Cau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5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990720" y="2013120"/>
            <a:ext cx="77724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Encourage all parties to liste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 Identify areas of disagreemen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. Identify areas of agreemen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. Search for solution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. Reach a consens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Facilitate Collaboration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990720" y="2013120"/>
            <a:ext cx="77724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Bef>
                <a:spcPts val="601"/>
              </a:spcBef>
              <a:spcAft>
                <a:spcPts val="901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down all ideas as they are generate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601"/>
              </a:spcBef>
              <a:spcAft>
                <a:spcPts val="901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aluate the positive and negative aspects of each ide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601"/>
              </a:spcBef>
              <a:spcAft>
                <a:spcPts val="901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rrow the list to the idea that best resolves the probl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The Brainstorming Method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4T18:57:45Z</dcterms:created>
  <dc:creator>Corey Smith</dc:creator>
  <dc:description/>
  <dc:language>en-US</dc:language>
  <cp:lastModifiedBy>Diana Helms</cp:lastModifiedBy>
  <cp:lastPrinted>2011-06-10T02:38:27Z</cp:lastPrinted>
  <dcterms:modified xsi:type="dcterms:W3CDTF">2011-06-24T19:13:15Z</dcterms:modified>
  <cp:revision>69</cp:revision>
  <dc:subject/>
  <dc:title>PowerPoint Presentation</dc:title>
</cp:coreProperties>
</file>