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1D6C-1232-4CF5-A8DE-ECE48A68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147A-0C39-4256-BCE8-06F17B76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7E3E-390E-45FC-9194-E6E37397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F160-477B-4614-80A2-0F3F1C2E0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239E-8992-4CDB-AEF3-444D37021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7FA4-909E-4A42-9173-F0E4B3C0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176920" y="3056040"/>
            <a:ext cx="47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adership Excellenc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056960" y="3665520"/>
            <a:ext cx="70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1629"/>
                </a:solidFill>
                <a:latin typeface="Arial"/>
                <a:ea typeface="Arial"/>
              </a:rPr>
              <a:t>Service an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a clear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ster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601"/>
              </a:spcBef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e achie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Effective Leader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urage particip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 problem-sol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lerate mista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team members g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su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Team Leaders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72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the quality of work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 produ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hance product or service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7016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 organization/company qu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Benefits of Teams 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A person who is worthy of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being a leader wants power not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for himself, but in order to </a:t>
            </a:r>
            <a:br>
              <a:rPr sz="3200"/>
            </a:br>
            <a:r>
              <a:rPr b="0" i="1" lang="en-US" sz="3200" spc="-1" strike="noStrike">
                <a:solidFill>
                  <a:srgbClr val="00293f"/>
                </a:solidFill>
                <a:latin typeface="Arial"/>
              </a:rPr>
              <a:t>be of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293f"/>
                </a:solidFill>
                <a:latin typeface="Arial"/>
              </a:rPr>
              <a:t>U.S. Senator Sam J. Ervin,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162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701629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5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21:41:10Z</dcterms:created>
  <dc:creator>Corey Smith</dc:creator>
  <dc:description/>
  <dc:language>en-US</dc:language>
  <cp:lastModifiedBy>Diana Helms</cp:lastModifiedBy>
  <cp:lastPrinted>2011-06-22T21:33:23Z</cp:lastPrinted>
  <dcterms:modified xsi:type="dcterms:W3CDTF">2011-06-24T18:53:06Z</dcterms:modified>
  <cp:revision>68</cp:revision>
  <dc:subject/>
  <dc:title>PowerPoint Presentation</dc:title>
</cp:coreProperties>
</file>