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EC9-1A1E-439A-8BD9-72AFB24B2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3E5-C86D-4B35-9CF2-8CC7DFE98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B48-3F56-4D15-8524-F8AA53F7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2E1-DE50-4FDB-8120-9848C9E8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9B2-7AA5-4884-B1C0-03BFAD3B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179-9BF9-4006-846A-F63C2C78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2AD-FEEC-4BFF-94FC-A8A353EE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869840" y="3665520"/>
            <a:ext cx="538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Motivating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ing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ng and maint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ion mea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1320"/>
            <a:ext cx="7696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respon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o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courage team members to use their natural ski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o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120" y="2011320"/>
            <a:ext cx="72421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immedi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ward only the desired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undesirable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minate 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Use Appropriate Recogni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f your actions inspire others to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dream more, learn more, do more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nd become more, you are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293f"/>
                </a:solidFill>
                <a:latin typeface="Arial"/>
              </a:rPr>
              <a:t>John Quincy Adams, Sixth U.S.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02Z</dcterms:created>
  <dc:creator>Corey Smith</dc:creator>
  <dc:description/>
  <dc:language>en-US</dc:language>
  <cp:lastModifiedBy>Diana Helms</cp:lastModifiedBy>
  <cp:lastPrinted>2011-06-24T18:37:53Z</cp:lastPrinted>
  <dcterms:modified xsi:type="dcterms:W3CDTF">2011-06-24T18:38:41Z</dcterms:modified>
  <cp:revision>85</cp:revision>
  <dc:subject/>
  <dc:title>PowerPoint Presentation</dc:title>
</cp:coreProperties>
</file>