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12E4-BFAB-41D1-A415-88D80DEEA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1D31-936B-4478-B6D8-8013DB653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BE29-E344-45B8-BBF5-66E420E8D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1D64-A834-482E-A5D5-736EED9DD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2358-9DCC-47C6-97D8-7C56F0C15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C290-3AC3-4C21-93DA-EF24A8255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AFED-9B66-47E7-9C42-38CD38DFD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18FF-30F2-4DD0-8051-2AB998468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B21E-C875-49E6-8FB2-2CAC376D3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176920" y="3056040"/>
            <a:ext cx="47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adership Excellenc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159200" y="3665520"/>
            <a:ext cx="681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1629"/>
                </a:solidFill>
                <a:latin typeface="Arial"/>
                <a:ea typeface="Arial"/>
              </a:rPr>
              <a:t>The Leader as a Coa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87480" y="20109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clear direc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ster collabor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e achie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Universal Principle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87480" y="201096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they are supposed to d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they are supposed to do i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hey are supposed to do i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well they are expected to do i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well they are do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The Fundamentals of Coaching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87120" y="2010960"/>
            <a:ext cx="7242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s high but achievable expecta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uides team memb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ers sup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s advi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feedbac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courages team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A Coach’s Responsibility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87480" y="2010960"/>
            <a:ext cx="6556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95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e performance with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a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 with the team memb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for acknowledge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 toward a 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Five Steps to Effective Coaching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987120" y="2010960"/>
            <a:ext cx="7242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lk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m, no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them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mit when you have made a mistak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ep it simp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ep it short and specific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sincer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836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time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Tips for Discuss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87120" y="2010960"/>
            <a:ext cx="7242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mora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power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Benefits of Coaching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371240" y="2209680"/>
            <a:ext cx="6248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293f"/>
                </a:solidFill>
                <a:latin typeface="Arial"/>
              </a:rPr>
              <a:t>Coach by example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09:29:48Z</dcterms:created>
  <dc:creator>Corey Smith</dc:creator>
  <dc:description/>
  <dc:language>en-US</dc:language>
  <cp:lastModifiedBy>Diana Helms</cp:lastModifiedBy>
  <cp:lastPrinted>2011-06-22T21:10:06Z</cp:lastPrinted>
  <dcterms:modified xsi:type="dcterms:W3CDTF">2011-06-24T18:26:46Z</dcterms:modified>
  <cp:revision>80</cp:revision>
  <dc:subject/>
  <dc:title>PowerPoint Presentation</dc:title>
</cp:coreProperties>
</file>