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DFDF-D616-4792-8949-2603F99A8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BB10-4937-468D-B9C2-199F66E07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F712-B694-40C1-88F6-764FB0480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7435-C11F-4D6B-BA80-77D99DDB6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D22E-E29A-4C35-B4E7-41F64F853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2FF7-BDA3-4565-9C05-01BD0B004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392C-4233-475A-B35B-9B3DB01F9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4D9C-17C2-4A44-91F3-707E5AE7F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685800" y="3665520"/>
            <a:ext cx="77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Giving Effective Feedba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Feedback helps teams achieve goals, build confidence and pride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nd succeed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eedback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87480" y="20109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clear and concise objectiv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e team members’ per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immediate feedbac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ze positive per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our Step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87480" y="20109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specif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 for yoursel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since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hasize how actions affect the te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Giving Constructive Feedback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87480" y="20109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“I” techniqu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 on a positive no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ze improv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Giving Constructive Feedback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87480" y="20109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specif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ress your appr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courage more of the sa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Recognize Positive Performanc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93f"/>
                </a:solidFill>
                <a:latin typeface="Arial"/>
              </a:rPr>
              <a:t>Meaningful feedback </a:t>
            </a:r>
            <a:br>
              <a:rPr sz="3600"/>
            </a:br>
            <a:r>
              <a:rPr b="0" i="1" lang="en-US" sz="3600" spc="-1" strike="noStrike">
                <a:solidFill>
                  <a:srgbClr val="00293f"/>
                </a:solidFill>
                <a:latin typeface="Arial"/>
              </a:rPr>
              <a:t>reinforces outstanding </a:t>
            </a:r>
            <a:br>
              <a:rPr sz="3600"/>
            </a:br>
            <a:r>
              <a:rPr b="0" i="1" lang="en-US" sz="3600" spc="-1" strike="noStrike">
                <a:solidFill>
                  <a:srgbClr val="00293f"/>
                </a:solidFill>
                <a:latin typeface="Arial"/>
              </a:rPr>
              <a:t>performance and encourages </a:t>
            </a:r>
            <a:br>
              <a:rPr sz="3600"/>
            </a:br>
            <a:r>
              <a:rPr b="0" i="1" lang="en-US" sz="3600" spc="-1" strike="noStrike">
                <a:solidFill>
                  <a:srgbClr val="00293f"/>
                </a:solidFill>
                <a:latin typeface="Arial"/>
              </a:rPr>
              <a:t>others to impr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7:54:19Z</dcterms:created>
  <dc:creator>Corey Smith</dc:creator>
  <dc:description/>
  <dc:language>en-US</dc:language>
  <cp:lastModifiedBy>Diana Helms</cp:lastModifiedBy>
  <cp:lastPrinted>2011-06-24T17:58:40Z</cp:lastPrinted>
  <dcterms:modified xsi:type="dcterms:W3CDTF">2011-06-24T18:07:54Z</dcterms:modified>
  <cp:revision>75</cp:revision>
  <dc:subject/>
  <dc:title>PowerPoint Presentation</dc:title>
</cp:coreProperties>
</file>