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7DCA-E038-4D84-8836-3D1042B95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1F00-0D3F-4CB4-A6B4-2D8A3BB7D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D0AB-2B97-4F3A-A549-AFDD9F2D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B5A8-FFA7-4734-90B8-96D7F1D03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4143-2E87-4BB0-B9F2-3BC5BF44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05DC-CE8F-4B8A-8E82-E57718822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FE8A-7BC8-462E-B308-99CB2E9D5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6D5F-FB53-41FA-B0A1-FFA8300C6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378080" y="3665520"/>
            <a:ext cx="63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Delegate to Em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65530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39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cess of transferring the responsibility for a specific activity or task from one person to another and empowering that individual to accomplish a specific go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65530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conf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fish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uc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arriers to 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7086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orit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ch needs to availability and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21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21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tiv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21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ive Steps of 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7086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15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cribe task and expect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15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15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re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8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ower/grant auth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8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ive Steps of 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7086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ore involved and empowered work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productivity and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inno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er commitment from t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 of 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1143000" y="22096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Never tell people how to do things.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Tell them what to do and they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will surprise you with their ingenu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93f"/>
                </a:solidFill>
                <a:latin typeface="Arial"/>
                <a:ea typeface="Arial"/>
              </a:rPr>
              <a:t>– </a:t>
            </a:r>
            <a:r>
              <a:rPr b="0" lang="en-US" sz="2500" spc="-1" strike="noStrike">
                <a:solidFill>
                  <a:srgbClr val="00293f"/>
                </a:solidFill>
                <a:latin typeface="Arial"/>
                <a:ea typeface="Arial"/>
              </a:rPr>
              <a:t>General George Smith Patton, Jr.,</a:t>
            </a:r>
            <a:br>
              <a:rPr sz="2500"/>
            </a:br>
            <a:r>
              <a:rPr b="0" lang="en-US" sz="2500" spc="-1" strike="noStrike">
                <a:solidFill>
                  <a:srgbClr val="00293f"/>
                </a:solidFill>
                <a:latin typeface="Arial"/>
                <a:ea typeface="Arial"/>
              </a:rPr>
              <a:t>United States Army offic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Empower Your Team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0:31:01Z</dcterms:created>
  <dc:creator>Corey Smith</dc:creator>
  <dc:description/>
  <dc:language>en-US</dc:language>
  <cp:lastModifiedBy>Diana Helms</cp:lastModifiedBy>
  <cp:lastPrinted>2011-06-22T20:31:46Z</cp:lastPrinted>
  <dcterms:modified xsi:type="dcterms:W3CDTF">2011-06-24T17:10:11Z</dcterms:modified>
  <cp:revision>73</cp:revision>
  <dc:subject/>
  <dc:title>PowerPoint Presentation</dc:title>
</cp:coreProperties>
</file>