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46DE-5977-48AF-83AF-A21D6F62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6FF-ABFC-48E3-91D3-D68214B6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79BE-30ED-4349-B456-9AF70E3A2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7EFE-9CD4-4AD5-B497-8114469C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2BC-09DB-4FF2-BA05-FBF5F446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3C1B-ACAB-47BE-AD29-7E466507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195F-96F6-4240-BD80-DC95F905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24C-6734-40D6-805D-CBA6C6E4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AA6D-D1D2-438C-BC88-F0CB8DB4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4E84-F97D-4E67-8C65-0F5598FF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C57-D22B-41AA-95BF-CB2D46FE1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686160" y="3665520"/>
            <a:ext cx="77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Goal Setting and Plan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al setting + planning =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uccessful lea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goal is 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pecific objectiv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you and your team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ust achiev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plan i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blueprint fo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chieving these goa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s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-bou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haracteristics of Goal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team members in setting goa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each go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hat you must do to achieve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ularly review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Implementing Goal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es goa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leaders more future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s leaders to coordinate deci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s efficient use of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Planning Proces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lan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Establish strateg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et a timetab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ssign responsibilit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Anticipate obstac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Modify the plan as necess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to Plann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 creative abi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roblem-solving skil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commitment to achiev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stablished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Involv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270080" y="2023920"/>
            <a:ext cx="71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articipation allows team members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DCP enables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ub to establish goals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develop a plan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o achieve the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Distinguished Club Progr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6:14:38Z</dcterms:created>
  <dc:creator>Corey Smith</dc:creator>
  <dc:description/>
  <dc:language>en-US</dc:language>
  <cp:lastModifiedBy>Diana Helms</cp:lastModifiedBy>
  <cp:lastPrinted>2011-06-24T16:59:40Z</cp:lastPrinted>
  <dcterms:modified xsi:type="dcterms:W3CDTF">2011-06-24T17:05:08Z</dcterms:modified>
  <cp:revision>67</cp:revision>
  <dc:subject/>
  <dc:title>PowerPoint Presentation</dc:title>
</cp:coreProperties>
</file>