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FE96-C40F-48E9-BCD0-16E209C56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F711-80AA-44AA-B6F1-77CDAA9CF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D56B-1DE5-4CB0-B0D2-BAB86B3AF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71BC-02AE-4560-83BF-22D151B3D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571B-1614-4687-B1EC-B1E23E5DF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716D-198C-420D-A01D-0F0C65FC0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7064-26B3-4E72-8167-B013B15EA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3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176920" y="3056040"/>
            <a:ext cx="47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eadership Excellenc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159200" y="3665520"/>
            <a:ext cx="681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1629"/>
                </a:solidFill>
                <a:latin typeface="Arial"/>
                <a:ea typeface="Arial"/>
              </a:rPr>
              <a:t>Values and Leadersh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50920" y="2742840"/>
            <a:ext cx="6850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et of beliefs and ideas affecting the way people make decisions and conduct themselv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Values and Leadership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270080" y="2023920"/>
            <a:ext cx="403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hat are Valu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50920" y="2742840"/>
            <a:ext cx="6850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les of conduct based on the rightness or wrongness of a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Values and Leadership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270080" y="2023920"/>
            <a:ext cx="403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thics and Mor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150920" y="3124080"/>
            <a:ext cx="68500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l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w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Values and Leadership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1270080" y="2023920"/>
            <a:ext cx="650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ffective Leaders Demonstrate Their Values b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9072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901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gnize and reward team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Values and Leadership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837720" y="228600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93f"/>
                </a:solidFill>
                <a:latin typeface="Arial"/>
              </a:rPr>
              <a:t>It’s not hard to make decisions when you know what your values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3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293f"/>
                </a:solidFill>
                <a:latin typeface="Arial"/>
              </a:rPr>
              <a:t>Roy Dis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Values and Leadership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03:54:26Z</dcterms:created>
  <dc:creator>Corey Smith</dc:creator>
  <dc:description/>
  <dc:language>en-US</dc:language>
  <cp:lastModifiedBy>Diana Helms</cp:lastModifiedBy>
  <cp:lastPrinted>2011-06-24T16:47:15Z</cp:lastPrinted>
  <dcterms:modified xsi:type="dcterms:W3CDTF">2011-06-24T16:51:11Z</dcterms:modified>
  <cp:revision>67</cp:revision>
  <dc:subject/>
  <dc:title>PowerPoint Presentation</dc:title>
</cp:coreProperties>
</file>