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C6CE-0EA9-4168-81B2-D5FC5BE02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57D1-C10F-4C70-ADB5-D300A4539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0E64-1367-438E-97AB-753A825F2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C558-3200-449A-8AB1-8B70A305E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D6B-EACB-4FC8-8D13-B3BC121B2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CB69-A1C9-4E65-8456-44C3D11BB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B3D5-B33C-4898-AE2D-8B73A22EC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394360" y="3665520"/>
            <a:ext cx="434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Going Beyond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Our Clu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971440" y="213372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est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mc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ud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ech Contest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4320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rgeant at ar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ech Contest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666880" y="2057040"/>
            <a:ext cx="6096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tri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Leadership Opportuniti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42840" y="23623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eech Conte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maraderi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ferences and Convent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offer…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Take advantage of the learning </a:t>
            </a:r>
            <a:br>
              <a:rPr sz="4000"/>
            </a:b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and leadership options </a:t>
            </a:r>
            <a:br>
              <a:rPr sz="4000"/>
            </a:b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Toastmasters provi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4:55:27Z</dcterms:created>
  <dc:creator>Corey Smith</dc:creator>
  <dc:description/>
  <dc:language>en-US</dc:language>
  <cp:lastModifiedBy>Diana Helms</cp:lastModifiedBy>
  <cp:lastPrinted>2011-03-28T15:28:16Z</cp:lastPrinted>
  <dcterms:modified xsi:type="dcterms:W3CDTF">2011-04-04T16:21:57Z</dcterms:modified>
  <cp:revision>58</cp:revision>
  <dc:subject/>
  <dc:title>PowerPoint Presentation</dc:title>
</cp:coreProperties>
</file>