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A62D-827D-4439-94CE-F8587556A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B9A9-22C1-4B31-AFD4-722241A04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C2EC-10A7-4E33-8648-4E4CB141E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2D20-2374-4CF9-895C-0DB213CDC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60AD-2348-400D-86D1-1121ACA66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612160" y="3665520"/>
            <a:ext cx="390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Keeping the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Commit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99840" y="2057040"/>
            <a:ext cx="6095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ending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efully preparing spee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filling all assign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I promise to participate by: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ing helpful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oting a positive, friendly enviro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ng as an offi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ing members &amp; guests with respect and courte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837720"/>
            <a:ext cx="6934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I promise to aid fellowship by: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52480" y="2469960"/>
            <a:ext cx="647712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inging g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llowing guidelines and r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ing ethical 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I promise to maintain 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ub quality by: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5:03:50Z</dcterms:created>
  <dc:creator>Corey Smith</dc:creator>
  <dc:description/>
  <dc:language>en-US</dc:language>
  <cp:lastModifiedBy>Diana Helms</cp:lastModifiedBy>
  <cp:lastPrinted>2011-03-07T22:20:14Z</cp:lastPrinted>
  <dcterms:modified xsi:type="dcterms:W3CDTF">2011-04-04T16:17:27Z</dcterms:modified>
  <cp:revision>59</cp:revision>
  <dc:subject/>
  <dc:title>PowerPoint Presentation</dc:title>
</cp:coreProperties>
</file>