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619A-8352-4657-88F9-5580114CB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AE09-374D-4E8E-805E-A1ABE7A94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69E0-5AB8-488F-97C4-10F70789E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BC1F-D2C7-4A34-9E24-6EDE85F24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098E-53AF-465A-A867-1273D5BF6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23C2-342A-467E-8CD5-5EC9B2DCB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BC95-9476-4F32-9B82-7FE7EEB93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778E-FFAD-4103-BDA6-C0440B7F2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C7AB-E1F1-48B6-B1E7-E4849FBEA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8581-87D3-4BE4-879B-E55A323D8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D8D8-181F-49F9-ADBD-9C81D809E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C5AD-594A-4B10-B3CE-3A573C7BC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12A7-DE66-4A79-8EBB-B7B2A907C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01D7-5BF7-4696-A5C5-9C9B5E9A8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3003120" y="3665520"/>
            <a:ext cx="312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Mento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676520" y="251424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l how you have benefi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e the mentee to other ev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knowledge progr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officers’ du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speech contes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organ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Mentoring Step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600200" y="188424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ver Ti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666880" y="2514240"/>
            <a:ext cx="4648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ger to lea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p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to new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y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tefu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8381880" y="6400800"/>
            <a:ext cx="3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Qualities of Mente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209680" y="188424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ntees should b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143000" y="2819520"/>
            <a:ext cx="6858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</a:rPr>
              <a:t>It should not last forever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 Finite Relationship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438280" y="198108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Experien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        </a:t>
            </a: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Lear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               </a:t>
            </a: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Benef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5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5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66320" y="251424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89880" indent="-38988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s a personal interest and hel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es as a role model, coach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confida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ers knowledge, insight, perspective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wisd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s someone become successfu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What is a Mentor?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066680" y="188424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mento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3880" y="20574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the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club standards and cus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conf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e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ickly learn speaking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440" y="8377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Easing the Transit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09680" y="2839680"/>
            <a:ext cx="5943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rther refine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new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Developing Special Skill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828800" y="2057400"/>
            <a:ext cx="632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re experienced memb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057040" y="228600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210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from their ment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210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ain produ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210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something for ot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210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ive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Benefits to Mentor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86000" y="23619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satisfied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er member reten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Benefits to Club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343040" y="22093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uppor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Knowledge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good listen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Mentor Qualiti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371600" y="2209680"/>
            <a:ext cx="28954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Availa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Pati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Sensitiv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Respectfu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Flexi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057040" y="259092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spcAft>
                <a:spcPts val="19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 with the new m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spcAft>
                <a:spcPts val="19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 the new member to club customs and proced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spcAft>
                <a:spcPts val="19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to sign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spcAft>
                <a:spcPts val="19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with the Ice Br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Mentoring Step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523880" y="1884240"/>
            <a:ext cx="403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First Mee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5640" y="2590560"/>
            <a:ext cx="5334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mentees awar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resour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positive feedbac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responsibil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 with speeches an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assignm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Mentoring Step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600200" y="188424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Next Mee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5:22:13Z</dcterms:created>
  <dc:creator>Corey Smith</dc:creator>
  <dc:description/>
  <dc:language>en-US</dc:language>
  <cp:lastModifiedBy>Diana Helms</cp:lastModifiedBy>
  <cp:lastPrinted>2011-03-07T22:20:14Z</cp:lastPrinted>
  <dcterms:modified xsi:type="dcterms:W3CDTF">2011-04-04T16:14:21Z</dcterms:modified>
  <cp:revision>62</cp:revision>
  <dc:subject/>
  <dc:title>PowerPoint Presentation</dc:title>
</cp:coreProperties>
</file>