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1B7E-BBF0-4D09-A3C2-0501D8D4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DBA-3D46-4EF9-A1D1-175A97B5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3F4-00A5-4B98-9853-02D18977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DEF0-967B-476B-85E4-9CD5F6DAD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8CA-542A-4CFC-A1E5-A88295AD5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9DC-9A99-48E4-BC0D-5874C02F3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28600" y="36115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eting Roles a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ssigned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ast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Evalu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4"/>
          <p:cNvSpPr/>
          <p:nvPr/>
        </p:nvSpPr>
        <p:spPr>
          <a:xfrm>
            <a:off x="47242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ch Evalu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ammar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h-Cou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2320" y="213336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er of Inv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ke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Cou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liamenta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ditional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6476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Public Re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Memb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Officers’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Coming together is a beginning. Keeping together is progress. Working together is succ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Henry Ford, American Industrialist;</a:t>
            </a:r>
            <a:br>
              <a:rPr sz="2800"/>
            </a:b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pioneer of the assembly-line produ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04:21Z</dcterms:created>
  <dc:creator>Corey Smith</dc:creator>
  <dc:description/>
  <dc:language>en-US</dc:language>
  <cp:lastModifiedBy>Diana Helms</cp:lastModifiedBy>
  <cp:lastPrinted>2011-03-24T21:19:41Z</cp:lastPrinted>
  <dcterms:modified xsi:type="dcterms:W3CDTF">2011-04-04T16:09:41Z</dcterms:modified>
  <cp:revision>63</cp:revision>
  <dc:subject/>
  <dc:title>PowerPoint Presentation</dc:title>
</cp:coreProperties>
</file>