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6955-9354-42EB-AECA-345FD857A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97E5-6163-4F73-8E50-8389DC218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7F91-6DC6-40EC-828E-4CD999836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6821-BBAD-4E24-B68A-9E93B6217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7BE8-485F-466C-A4EC-71FFD35E0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6632-BB0A-4AE9-9415-9E7292781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AB96-0FC5-4C85-9ED3-950854EDB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4812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954080" y="3657600"/>
            <a:ext cx="522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Creating the Best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Club Clim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90920" y="2819520"/>
            <a:ext cx="5943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enviro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ber inter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ub Climate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868760" y="2209680"/>
            <a:ext cx="38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93f"/>
                </a:solidFill>
                <a:latin typeface="Arial"/>
                <a:ea typeface="Arial"/>
              </a:rPr>
              <a:t>The Deciding Fac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90920" y="2971800"/>
            <a:ext cx="4572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56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riving prepa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56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ering assi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56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luntee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56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440" y="8377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Set an Example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818000" y="2209680"/>
            <a:ext cx="517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93f"/>
                </a:solidFill>
                <a:latin typeface="Arial"/>
                <a:ea typeface="Arial"/>
              </a:rPr>
              <a:t>Make a good impression b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90720" y="2742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70440" indent="-370440">
              <a:lnSpc>
                <a:spcPct val="90000"/>
              </a:lnSpc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et g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90000"/>
              </a:lnSpc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 them in conver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90000"/>
              </a:lnSpc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swer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90000"/>
              </a:lnSpc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friend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90000"/>
              </a:lnSpc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e them to another meeting or to jo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Welcome Guest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762120" y="2133720"/>
            <a:ext cx="4267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93f"/>
                </a:solidFill>
                <a:latin typeface="Arial"/>
                <a:ea typeface="Arial"/>
              </a:rPr>
              <a:t>First Impressions Cou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057040" y="2514240"/>
            <a:ext cx="6248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Bef>
                <a:spcPts val="1125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a men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1125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w interest in ot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1125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conside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1125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e effectiv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1125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ze achie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1125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ster camarade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Show Members 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at You Care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Keep your</a:t>
            </a:r>
            <a:br>
              <a:rPr sz="4800"/>
            </a:b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club thriv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5:19:31Z</dcterms:created>
  <dc:creator>Corey Smith</dc:creator>
  <dc:description/>
  <dc:language>en-US</dc:language>
  <cp:lastModifiedBy>Graphic user</cp:lastModifiedBy>
  <cp:lastPrinted>2011-03-07T22:20:14Z</cp:lastPrinted>
  <dcterms:modified xsi:type="dcterms:W3CDTF">2013-07-12T17:52:25Z</dcterms:modified>
  <cp:revision>61</cp:revision>
  <dc:subject/>
  <dc:title>PowerPoint Presentation</dc:title>
</cp:coreProperties>
</file>