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4E66-6D59-43AC-A6F3-06E58CDE4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B7B2-B61D-43CD-A5B8-BEABA43FB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8E49-996B-44A3-AD73-548E9FB48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4234-9EB4-47AE-95A8-09928FE8B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DA51-E8EB-4CD8-A1C2-371293290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AD78-317E-4D61-BAE6-3B7389D40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2E18-90A8-43A1-BECD-23E98244A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5932-CDA4-4270-B424-56E40728E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56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531800" y="3665520"/>
            <a:ext cx="606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Evaluate to Motiv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Evaluations Benefit 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Speakers by…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19320" y="26668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4436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ing immediate feedba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436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ering methods for impr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436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ilding and maintaining self-este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Evaluating by the 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“Tell and Sell” Approach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685800" y="2819520"/>
            <a:ext cx="77724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  <a:ea typeface="Arial"/>
              </a:rPr>
              <a:t>When the evaluator talk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50000"/>
              </a:lnSpc>
              <a:spcBef>
                <a:spcPts val="10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  <a:ea typeface="Arial"/>
              </a:rPr>
              <a:t>…</a:t>
            </a:r>
            <a:r>
              <a:rPr b="1" lang="en-US" sz="4000" spc="-1" strike="noStrike">
                <a:solidFill>
                  <a:srgbClr val="00293f"/>
                </a:solidFill>
                <a:latin typeface="Arial"/>
                <a:ea typeface="Arial"/>
              </a:rPr>
              <a:t>and the speaker listen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47400" indent="-347400">
              <a:spcBef>
                <a:spcPts val="561"/>
              </a:spcBef>
              <a:spcAft>
                <a:spcPts val="108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fore the speech, talk with th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aker about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440" y="91404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How to Evaluate Effectively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523880" y="2819520"/>
            <a:ext cx="381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buClr>
                <a:srgbClr val="b914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b914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guid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b914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conc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523880" y="4764240"/>
            <a:ext cx="696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buClr>
                <a:srgbClr val="b914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at you are inter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b914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yourself in the position of the spe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b914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762120" y="42670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561"/>
              </a:spcBef>
              <a:spcAft>
                <a:spcPts val="10800"/>
              </a:spcAft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uring the speech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How to Evaluate Effectively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295280" y="2120760"/>
            <a:ext cx="7239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4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uring your evaluatio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1752480" y="288288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buClr>
                <a:srgbClr val="b914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your words carefu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b914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e speech, not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b914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self-este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void Being Disingenuou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685800" y="2590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  <a:ea typeface="Arial"/>
              </a:rPr>
              <a:t>Honest evaluations are upbeat and encouraging while offering suggestions for improv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osing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295280" y="24382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 to your opening state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marize your key poi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 a personal story or examp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courage listeners to apply what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heard and learn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7:24:01Z</dcterms:created>
  <dc:creator>Corey Smith</dc:creator>
  <dc:description/>
  <dc:language>en-US</dc:language>
  <cp:lastModifiedBy>Diana Helms</cp:lastModifiedBy>
  <cp:lastPrinted>2011-03-24T17:36:10Z</cp:lastPrinted>
  <dcterms:modified xsi:type="dcterms:W3CDTF">2011-04-04T15:58:57Z</dcterms:modified>
  <cp:revision>62</cp:revision>
  <dc:subject/>
  <dc:title>PowerPoint Presentation</dc:title>
</cp:coreProperties>
</file>