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5585-BC08-4CC9-8BA6-F770FEC4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1DC85-7F23-4EE3-BEE2-D16722055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C07B-486D-4C0B-8A0B-A9624518D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49D15-767F-4F37-94B5-8E99C70A4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2CB3-A975-4EB4-A6EB-928103DD0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DDB4-1EFC-4ED3-8392-2798E55F6A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7DFD-9966-417F-996C-5CA8385BD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89D0-39C7-4F06-B94D-E1BC35A58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06C8-EE69-4A57-B002-9543E4BCD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17239-21F6-4060-A028-69D48E573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83FE-EEEA-4F7D-874E-A8EEEA6D9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469F-8AA9-4065-B61A-3E0A508E9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Using Body Langu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2668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ree Categories of </a:t>
            </a:r>
            <a:br>
              <a:rPr sz="4000"/>
            </a:b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Body Langu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3400" y="26150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al Exp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ole Body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acial Express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611800" y="2139840"/>
            <a:ext cx="47394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key to the meaning behind a mess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Faci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185560" y="2188440"/>
            <a:ext cx="607032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273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d222c"/>
                </a:solidFill>
                <a:latin typeface="Arial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73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impression of personal contact to everyone in the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Ges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12920" y="219420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Three Types of Ges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n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Whole Body Mo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94560" y="2774880"/>
            <a:ext cx="618408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132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cd222c"/>
                </a:solidFill>
                <a:latin typeface="Arial"/>
              </a:rPr>
              <a:t>St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xed and balanc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y your speaking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22400" y="204372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cor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y and Frie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129760" y="2293920"/>
            <a:ext cx="588420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i="1" lang="en-US" sz="3600" spc="-1" strike="noStrike">
                <a:solidFill>
                  <a:srgbClr val="cd222c"/>
                </a:solidFill>
                <a:latin typeface="Arial"/>
              </a:rPr>
              <a:t>"The language of the body is the key that can unlock the soul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cd222c"/>
                </a:solidFill>
                <a:latin typeface="Arial"/>
              </a:rPr>
              <a:t>Konstantin Stanislavsky, </a:t>
            </a:r>
            <a:r>
              <a:rPr b="0" lang="en-US" sz="2400" spc="-1" strike="noStrike">
                <a:solidFill>
                  <a:srgbClr val="cd222c"/>
                </a:solidFill>
                <a:latin typeface="Arial"/>
              </a:rPr>
              <a:t>developed the method theory of a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5</TotalTime>
  <Application>LibreOffice/7.4.7.2$Linux_X86_64 LibreOffice_project/40$Build-2</Application>
  <AppVersion>15.0000</AppVersion>
  <Words>107</Words>
  <Paragraphs>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9:10:32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9:27:1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