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1CE70-89EC-48D2-AAD4-C039741F7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2760-EC60-4FCE-9A77-1106F941F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0267-B217-45B3-ACE8-143CCBA0C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A237-CE88-4530-A3B6-18AEBE4685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CD161-06EA-411C-A196-08317AFF35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C0D1-D99E-4B78-A791-AE5ED7BCF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2D6F-50E4-4B4E-971C-71D69BC13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0874-B4C3-45A4-8262-CFE682694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67560" y="935280"/>
            <a:ext cx="618408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C5D9-436C-4121-98F7-3FC6673CC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2A20-D198-4240-AD62-1CFAF0100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1D6F-BA21-4435-A793-52948BD1C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704E-75BF-4AD2-B766-68F5EA2D4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pt pg bkgd-1.png"/>
          <p:cNvPicPr/>
          <p:nvPr/>
        </p:nvPicPr>
        <p:blipFill>
          <a:blip r:embed="rId2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ppt pg bkgd-2.png"/>
          <p:cNvPicPr/>
          <p:nvPr/>
        </p:nvPicPr>
        <p:blipFill>
          <a:blip r:embed="rId1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4070520" y="1547640"/>
            <a:ext cx="4129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Bold"/>
              </a:rPr>
              <a:t>Preparation and Practi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126680" y="3406320"/>
            <a:ext cx="4129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8f087"/>
                </a:solidFill>
                <a:latin typeface="Arial"/>
              </a:rPr>
              <a:t>The Better Speak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428760" y="6391080"/>
            <a:ext cx="77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2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Extra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094840" y="2194200"/>
            <a:ext cx="61840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an introduc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pare yourself physicall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a mental rehears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167560" y="2856240"/>
            <a:ext cx="566136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i="1" lang="en-US" sz="3600" spc="-1" strike="noStrike">
                <a:solidFill>
                  <a:srgbClr val="cd222c"/>
                </a:solidFill>
                <a:latin typeface="Arial"/>
              </a:rPr>
              <a:t>Good luck happens</a:t>
            </a:r>
            <a:br>
              <a:rPr sz="3600"/>
            </a:br>
            <a:r>
              <a:rPr b="1" i="1" lang="en-US" sz="3600" spc="-1" strike="noStrike">
                <a:solidFill>
                  <a:srgbClr val="cd222c"/>
                </a:solidFill>
                <a:latin typeface="Arial"/>
              </a:rPr>
              <a:t>when preparedness</a:t>
            </a:r>
            <a:br>
              <a:rPr sz="3600"/>
            </a:br>
            <a:r>
              <a:rPr b="1" i="1" lang="en-US" sz="3600" spc="-1" strike="noStrike">
                <a:solidFill>
                  <a:srgbClr val="cd222c"/>
                </a:solidFill>
                <a:latin typeface="Arial"/>
              </a:rPr>
              <a:t>meets opportuni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cd222c"/>
                </a:solidFill>
                <a:latin typeface="Arial"/>
              </a:rPr>
              <a:t>                         – </a:t>
            </a:r>
            <a:r>
              <a:rPr b="0" lang="en-US" sz="3200" spc="-1" strike="noStrike">
                <a:solidFill>
                  <a:srgbClr val="cd222c"/>
                </a:solidFill>
                <a:latin typeface="Arial"/>
              </a:rPr>
              <a:t>A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1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167560" y="2148840"/>
            <a:ext cx="566136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</a:tabLst>
            </a:pPr>
            <a:r>
              <a:rPr b="1" lang="en-US" sz="4000" spc="-1" strike="noStrike">
                <a:solidFill>
                  <a:srgbClr val="cd222c"/>
                </a:solidFill>
                <a:latin typeface="Arial"/>
              </a:rPr>
              <a:t>Preparation</a:t>
            </a:r>
            <a:br>
              <a:rPr sz="4000"/>
            </a:br>
            <a:r>
              <a:rPr b="1" lang="en-US" sz="4000" spc="-1" strike="noStrike">
                <a:solidFill>
                  <a:srgbClr val="cd222c"/>
                </a:solidFill>
                <a:latin typeface="Arial"/>
              </a:rPr>
              <a:t>and practice lead</a:t>
            </a:r>
            <a:br>
              <a:rPr sz="4000"/>
            </a:br>
            <a:r>
              <a:rPr b="1" lang="en-US" sz="4000" spc="-1" strike="noStrike">
                <a:solidFill>
                  <a:srgbClr val="cd222c"/>
                </a:solidFill>
                <a:latin typeface="Arial"/>
              </a:rPr>
              <a:t>to excell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Become familiar wi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58400" y="2037240"/>
            <a:ext cx="58590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ctern and audience lo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crophone usag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om condi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ual ai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Become familiar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85560" y="2148840"/>
            <a:ext cx="6518880" cy="33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Lectern and Audience 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ing are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ence configur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ge location of platform step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 ram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Become familiar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185560" y="2148840"/>
            <a:ext cx="6184080" cy="36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Microph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s of 100+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ence over the age of 5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or acou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ice strai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Become familiar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94560" y="2076480"/>
            <a:ext cx="6184080" cy="3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Room Cond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mperatu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ropriate light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reet entry for latecom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etitive outside noi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Become familiar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194560" y="2121840"/>
            <a:ext cx="61840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Visual A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ted where all can s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ropriately sized viewing scre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ndout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Rehearsing the Spee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76840" y="2820240"/>
            <a:ext cx="61840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 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ctice ideas, not wor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pare a mental draft of the speech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ish each rehearsal sess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Improving Your Spee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076840" y="2801880"/>
            <a:ext cx="61840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improvements graduall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range for feedb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etter Speaker 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etter Speaker template.potx</Template>
  <TotalTime>48</TotalTime>
  <Application>LibreOffice/7.4.7.2$Linux_X86_64 LibreOffice_project/40$Build-2</Application>
  <AppVersion>15.0000</AppVersion>
  <Words>194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8:52:27Z</dcterms:created>
  <dc:creator>Lisa Lerma</dc:creator>
  <dc:description/>
  <dc:language>en-US</dc:language>
  <cp:lastModifiedBy>Diana Helms</cp:lastModifiedBy>
  <cp:lastPrinted>2011-06-23T00:33:11Z</cp:lastPrinted>
  <dcterms:modified xsi:type="dcterms:W3CDTF">2011-07-13T19:06:48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1</vt:r8>
  </property>
</Properties>
</file>