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C550-68FA-49D5-A7A7-5D4A4A4E4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AF8F-CD46-4F42-8830-D9AD8639D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5C05-73C2-4EB7-BA69-4EFBD2159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B4AC8-D175-47C8-9382-39B114C699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FCCE-5B15-4351-8FF1-940D4B3A28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ED51-19CE-43CF-9CFE-5EEB53185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EF32-EF40-456C-A23A-58140B8AB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B7D9-5437-4E5C-8D45-183FA7CBEA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67560" y="935280"/>
            <a:ext cx="618408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9311-4DE3-4C0D-87C3-B10C71A8C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E0B0-4016-4526-8F65-C685D06F58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41B3-AAD0-49D0-A51C-D9BAB3DF8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EBA4-6EB0-4D16-BDC6-C571B64B40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pt pg bkgd-1.png"/>
          <p:cNvPicPr/>
          <p:nvPr/>
        </p:nvPicPr>
        <p:blipFill>
          <a:blip r:embed="rId2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ppt pg bkgd-2.png"/>
          <p:cNvPicPr/>
          <p:nvPr/>
        </p:nvPicPr>
        <p:blipFill>
          <a:blip r:embed="rId1"/>
          <a:stretch/>
        </p:blipFill>
        <p:spPr>
          <a:xfrm>
            <a:off x="3960" y="0"/>
            <a:ext cx="9135720" cy="6857640"/>
          </a:xfrm>
          <a:prstGeom prst="rect">
            <a:avLst/>
          </a:prstGeom>
          <a:ln w="0">
            <a:noFill/>
          </a:ln>
        </p:spPr>
      </p:pic>
      <p:sp>
        <p:nvSpPr>
          <p:cNvPr id="41" name="TextBox 6"/>
          <p:cNvSpPr/>
          <p:nvPr/>
        </p:nvSpPr>
        <p:spPr>
          <a:xfrm>
            <a:off x="4070520" y="1547640"/>
            <a:ext cx="41292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Arial Bold"/>
              </a:rPr>
              <a:t>Creating an Introd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38560" y="3406320"/>
            <a:ext cx="41292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8f087"/>
                </a:solidFill>
                <a:latin typeface="Arial"/>
              </a:rPr>
              <a:t>The Better Speaker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428760" y="6391080"/>
            <a:ext cx="77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Arial"/>
              </a:rPr>
              <a:t>2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5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67560" y="935280"/>
            <a:ext cx="618408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1e3657"/>
                </a:solidFill>
                <a:latin typeface="Arial Bold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167560" y="2498400"/>
            <a:ext cx="5661360" cy="295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Master </a:t>
            </a:r>
            <a:br>
              <a:rPr sz="4000"/>
            </a:b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the art of </a:t>
            </a:r>
            <a:br>
              <a:rPr sz="4000"/>
            </a:br>
            <a:r>
              <a:rPr b="1" lang="en-US" sz="4000" spc="-1" strike="noStrike">
                <a:solidFill>
                  <a:srgbClr val="cd222c"/>
                </a:solidFill>
                <a:latin typeface="Arial"/>
              </a:rPr>
              <a:t>introduc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1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The Importance of an 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21680" y="265464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mooth trans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mind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 autho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27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General Essentia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62360" y="216648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er’s na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topic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ti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Toastmasters Essential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46160" y="221508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assig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objectiv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Drafting the 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70640" y="2166480"/>
            <a:ext cx="6886800" cy="30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roac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arific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Applying Restrai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06920" y="2031840"/>
            <a:ext cx="6469560" cy="43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upstage the speak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reveal speech detai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surprise the speak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praise the speaker’s skil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rely on cliché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90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save the speaker’s name until l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Speakers’ Responsibil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946160" y="2223360"/>
            <a:ext cx="5817600" cy="34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available to offer speech-related inform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 the introducer of any special consider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Lectern Etiquet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913760" y="2142000"/>
            <a:ext cx="5817600" cy="34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ak to the aud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 the applau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ke hand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ve the lecter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w inter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12400" y="890640"/>
            <a:ext cx="6858000" cy="146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Introductions Are Only </a:t>
            </a:r>
            <a:br>
              <a:rPr sz="4000"/>
            </a:br>
            <a:r>
              <a:rPr b="1" lang="en-US" sz="4000" spc="-1" strike="noStrike">
                <a:solidFill>
                  <a:srgbClr val="1e3657"/>
                </a:solidFill>
                <a:latin typeface="Arial Bold"/>
              </a:rPr>
              <a:t>the Begin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937880" y="2654640"/>
            <a:ext cx="6691320" cy="34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speech’s idea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ints of entertain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he speech helped or enlightened the audi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8520" indent="-398520">
              <a:lnSpc>
                <a:spcPct val="100000"/>
              </a:lnSpc>
              <a:spcBef>
                <a:spcPts val="1321"/>
              </a:spcBef>
              <a:buClr>
                <a:srgbClr val="cd222c"/>
              </a:buClr>
              <a:buFont typeface="Webdings" charset="2"/>
              <a:buChar char=""/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ds of thanks and appreci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Better Speaker 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etter Speaker template.potx</Template>
  <TotalTime>44</TotalTime>
  <Application>LibreOffice/7.4.7.2$Linux_X86_64 LibreOffice_project/40$Build-2</Application>
  <AppVersion>15.0000</AppVersion>
  <Words>157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8:34:14Z</dcterms:created>
  <dc:creator>Lisa Lerma</dc:creator>
  <dc:description/>
  <dc:language>en-US</dc:language>
  <cp:lastModifiedBy>Diana Helms</cp:lastModifiedBy>
  <cp:lastPrinted>2011-05-09T21:08:52Z</cp:lastPrinted>
  <dcterms:modified xsi:type="dcterms:W3CDTF">2011-07-13T18:49:58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0</vt:r8>
  </property>
</Properties>
</file>