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559C-E769-4539-A4AF-A31D001EB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7D08-C693-43CB-9069-DA63147FA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5978-50D5-4F15-8FE8-D99C2FB55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9A59-D308-4232-887D-4FEE12CB0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A97C-670B-47A7-B959-3CFCB3CE7E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C6E5-5721-4DE5-9CD4-9E31FA5CC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D39C-CDCD-4E2C-95F7-3E5BF0101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7C3B-AD1D-456B-801F-55A6909BF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0A6D-B13C-4451-BD2F-8BE4836F0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B834-C51E-4C38-B895-34B255282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98C2-CBAB-4F28-B43A-16D582C3D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CC6D-08ED-4743-AEAB-D57EE5088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Know Your Aud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09032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Audience 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13400" y="2115720"/>
            <a:ext cx="6691320" cy="39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rang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le / female rati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pational and economic statu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al backgrou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orient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isure activ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Keep the Audience’s Atten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3400" y="2594520"/>
            <a:ext cx="6221520" cy="36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om acou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mperatur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side no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ossible distr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Keep the Audience’s Atten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1400" y="2705760"/>
            <a:ext cx="5515920" cy="29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of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events/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s for lengthy pres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Approaching the Audi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13400" y="2149920"/>
            <a:ext cx="600552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01760" indent="-401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the audience already kn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an pub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 local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ult re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 with another presenter or an actual me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Common Speech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031480" y="2660400"/>
            <a:ext cx="6402600" cy="34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Fulfill the Audience’s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p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u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31480" y="2043720"/>
            <a:ext cx="6388920" cy="34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Advanc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ve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-friendly 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53</TotalTime>
  <Application>LibreOffice/7.4.7.2$Linux_X86_64 LibreOffice_project/40$Build-2</Application>
  <AppVersion>15.0000</AppVersion>
  <Words>109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7:28:31Z</dcterms:created>
  <dc:creator>Lisa Lerma</dc:creator>
  <dc:description/>
  <dc:language>en-US</dc:language>
  <cp:lastModifiedBy>Diana Helms</cp:lastModifiedBy>
  <cp:lastPrinted>2011-05-09T21:08:52Z</cp:lastPrinted>
  <dcterms:modified xsi:type="dcterms:W3CDTF">2011-07-13T17:52:37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