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093C-18EC-4FAC-B4EF-098171EC6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3A02-5E24-4F24-BDA6-37ABB3EA5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C980-DA35-4862-8D8F-555FB9CCF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D51C-E519-4084-A2D6-426A618BC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DC24-9CD8-48BD-87C8-43B85B5A6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2D2D-366C-4060-BC99-5B7D70F2A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8FF7-A8CB-4FFF-A10E-CBD6D2F90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AE41-7830-4314-9876-FC41BEA06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38BB-BEAC-4E5A-89A0-584F55181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AEFB-A1A3-4324-BE7B-FD240BAD2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2A78-979A-4956-AC98-EB6814160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36A5-5811-4B1D-99D8-BC7507EA6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Selecting Your 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17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Two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94560" y="2248560"/>
            <a:ext cx="61840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Person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Two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94560" y="2284920"/>
            <a:ext cx="61840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ferenc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Get Inspi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67280" y="2632680"/>
            <a:ext cx="5207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Write it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2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31480" y="211608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Your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peopl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rang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 with the subject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education, interests, backgrounds, and experience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013120" y="216144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e Occa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 event have a the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re you scheduled to spea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ill happen after your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13120" y="222516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Your Own 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husiasm and inte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you an author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22120" y="2134440"/>
            <a:ext cx="621144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Be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topic specific enough for the time allot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the sub-points support the topic and add to the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an be cut from the body of the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51560" y="2484360"/>
            <a:ext cx="8092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Personal Experience +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Resources +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Consideration =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An Excellent Speech Top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4</TotalTime>
  <Application>LibreOffice/7.4.7.2$Linux_X86_64 LibreOffice_project/40$Build-2</Application>
  <AppVersion>15.0000</AppVersion>
  <Words>163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11:57Z</dcterms:created>
  <dc:creator>Lisa Lerma</dc:creator>
  <dc:description/>
  <dc:language>en-US</dc:language>
  <cp:lastModifiedBy>Diana Helms</cp:lastModifiedBy>
  <cp:lastPrinted>2011-06-22T20:59:19Z</cp:lastPrinted>
  <dcterms:modified xsi:type="dcterms:W3CDTF">2011-07-13T17:25:55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