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2F7B-371D-4DE2-A1CB-58F238436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918C-48B8-43A9-A335-9216ACD95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D659-FA09-493C-B003-2B0773814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00FC0-F6B9-4102-987E-E30F6F98BF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68E0-84E3-4728-9B4E-B90BE45DA8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9EF5-7CAB-4CB6-9A07-214F9B5A3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EAB0-696E-43B3-A32C-B8DD8B302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51C12-3E82-4BF0-8AF6-75A86A8F5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67560" y="935280"/>
            <a:ext cx="618408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8C41-CB5E-4CE5-B890-5288DF4E4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44A3-AB88-4366-8690-793BCF8D8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01CA-C50C-480D-BF28-4DEF7CED2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60BA-402D-4243-B92B-1FAAE64BF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pt pg bkgd-1.png"/>
          <p:cNvPicPr/>
          <p:nvPr/>
        </p:nvPicPr>
        <p:blipFill>
          <a:blip r:embed="rId2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ppt pg bkgd-2.png"/>
          <p:cNvPicPr/>
          <p:nvPr/>
        </p:nvPicPr>
        <p:blipFill>
          <a:blip r:embed="rId1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4070520" y="1547640"/>
            <a:ext cx="41292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 Bold"/>
              </a:rPr>
              <a:t>Impromptu Speak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126680" y="3406320"/>
            <a:ext cx="4129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8f087"/>
                </a:solidFill>
                <a:latin typeface="Arial"/>
              </a:rPr>
              <a:t>The Better Speak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428760" y="6391080"/>
            <a:ext cx="77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2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When Giving an Impromptu Tal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39920" y="2801880"/>
            <a:ext cx="5216400" cy="33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1444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 List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Pau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fir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Tel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E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Strateg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58760" y="2306520"/>
            <a:ext cx="606924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ress an opin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ress cause and eff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eak the topic into compon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225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past, present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futu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Whatever You D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76560" y="2284920"/>
            <a:ext cx="618408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1444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Be confid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Be brie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Be since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Better Speaker 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etter Speaker template.potx</Template>
  <TotalTime>21</TotalTime>
  <Application>LibreOffice/7.4.7.2$Linux_X86_64 LibreOffice_project/40$Build-2</Application>
  <AppVersion>15.0000</AppVersion>
  <Words>70</Words>
  <Paragraphs>2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7:01:14Z</dcterms:created>
  <dc:creator>Lisa Lerma</dc:creator>
  <dc:description/>
  <dc:language>en-US</dc:language>
  <cp:lastModifiedBy>Diana Helms</cp:lastModifiedBy>
  <cp:lastPrinted>2011-06-21T20:51:59Z</cp:lastPrinted>
  <dcterms:modified xsi:type="dcterms:W3CDTF">2011-07-13T17:06:41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</vt:r8>
  </property>
</Properties>
</file>