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5567-5845-4D26-82E7-6E4EC27E1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A724-1F49-4493-A42A-0317D1FC2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09F0-0872-4E68-AF7C-7D2A88B5A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DA86-83FC-4988-BEBC-7C3FD6CD1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5584-F2B5-4B7E-8037-35F5DC1DAF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5ADE-DCF2-4D39-BDD2-EACDEF195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6D69-44C9-40A0-914C-768AB42F1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A9D4-3401-4571-9321-356E48016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B89E-09BE-4D90-9BB4-4E295002F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EA63-5045-4815-AB86-484555293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8A9D-E336-4F05-A11D-83278D56E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63A2-7ACF-4B5C-AEC0-CDDDB0821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Controlling Your F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17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nxiety Trigg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04400" y="222516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and unknown situ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of fail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 for appearing foolis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sibility of boring the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nxiety Symp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22400" y="227016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heart r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terflies in the stom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ontrollable shak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headedn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zz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anaging Anx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67560" y="1949400"/>
            <a:ext cx="6721920" cy="44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in front of a mirro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hearse in front of famil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frien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 a speech before your Toastmasters club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presentations before other groups, anywhere you c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anaging Anx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03560" y="2133720"/>
            <a:ext cx="607032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Visu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your thought processes to achieve positive resul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anaging Anx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76560" y="2230560"/>
            <a:ext cx="598212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Relax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metric exerci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thing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22200" y="2339280"/>
            <a:ext cx="6184080" cy="31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normal to feel nerv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audience won’t not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methods to exhibit confid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  <Words>119</Words>
  <Paragraphs>37</Paragraphs>
  <Company>Toastmasters Internation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6:48:52Z</dcterms:created>
  <dc:creator>Graphic user</dc:creator>
  <dc:description/>
  <dc:language>en-US</dc:language>
  <cp:lastModifiedBy>Diana Helms</cp:lastModifiedBy>
  <cp:lastPrinted>2011-05-09T21:08:52Z</cp:lastPrinted>
  <dcterms:modified xsi:type="dcterms:W3CDTF">2011-07-13T16:58:55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