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D652-4119-4543-9038-FF2EFC5BD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CA69-8006-431F-88C3-D05BE77F9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D9FC-F584-4BA5-A95D-7501ABF71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4C8F-E575-40B1-AD48-8C28801CA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CB7D-5020-470F-B2B9-FD47D442A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C7C8-AC63-412A-93A8-8ECA97272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7E97-23BC-47A3-B30E-29325A32A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7D66-4F81-460D-B6F3-E7489F0E1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72EC-E9E5-45B3-A6BB-321AB6AAE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D201-7EB4-456B-AE55-38A3A8EEA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99BB-FAD0-4C07-90FA-2F87EF794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6B7D-57C6-4008-AD44-736481AAD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Concluding Your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920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67560" y="2303640"/>
            <a:ext cx="566136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"Great is the art of beginning, but greater is the art of ending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d222c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cd222c"/>
                </a:solidFill>
                <a:latin typeface="Arial"/>
              </a:rPr>
              <a:t>Henry Wadsworth Longf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Criteria for Successful 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44360" y="2584800"/>
            <a:ext cx="62172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 a sense of cl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an imp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five to 10 percent of the entire speech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84480" y="225216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Use a quo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s auth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uses liste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matize your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5840" y="231984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Tell a short story or anecd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quick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it sh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inforce your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84480" y="2280600"/>
            <a:ext cx="607032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Call for 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rly explain what action the audience should ta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75840" y="2246760"/>
            <a:ext cx="53758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Ask a rhetorical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may ask, ‘Can we afford to do this?’ I ask, ‘Can we afford not to?’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84480" y="2272320"/>
            <a:ext cx="557064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Refer to the beginning of </a:t>
            </a:r>
            <a:br>
              <a:rPr sz="3000"/>
            </a:b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the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gan my remarks by reviewing the challenges our company must confron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192760" y="2280600"/>
            <a:ext cx="607032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ummarize your main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etition reinforces your messag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 </a:t>
            </a: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ips for Suc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012040" y="224604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ize your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 o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rain from adding new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  <Words>186</Words>
  <Paragraphs>45</Paragraphs>
  <Company>Toastmasters Internation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6:25:46Z</dcterms:created>
  <dc:creator>Graphic user</dc:creator>
  <dc:description/>
  <dc:language>en-US</dc:language>
  <cp:lastModifiedBy>Diana Helms</cp:lastModifiedBy>
  <cp:lastPrinted>2011-05-09T21:08:52Z</cp:lastPrinted>
  <dcterms:modified xsi:type="dcterms:W3CDTF">2011-07-13T16:43:19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