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D45AF-6E58-467D-8F0B-31DBC0778F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8076C-8350-46D9-9C0E-DF516EC44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2EF8D-370D-4240-95D9-341E904FA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ECF0-DDFF-4715-8FE6-AC40B538A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C733-FE99-4593-A674-4BB626CDB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DC9E-2C5B-4B8F-9BBF-D77DC86AE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05A0-D907-4D8A-931C-AE4E95D57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1948C-EBDD-4AA2-9657-5D14F8483E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CCED0-E5B5-4A03-98EC-BE8B6B40BA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E4F54-A3C9-47D3-860B-935CAFCC14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8790C-378A-4E34-9216-16440F1395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4EC7E-A01D-41C6-9D6D-E38253FA17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24B25-2A60-483E-A250-A00659BD69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FEA7-4B90-4BD7-97D1-76FCE83D72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BC2C-3170-42D8-94CF-9D7BD70FBE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4E93E-4DBE-4A1F-B3E1-92C3B88757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3591C-C95E-4B16-8368-83D65D702B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A0EB6-44DE-4956-A1BD-55FEC404CB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5B369-10FE-4488-8690-FBD35BF364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43FBF-0C07-4DF5-B970-F4B3ED73FA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8F25-0043-428F-8B4F-A2A49C65B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076B-BB60-4BE1-9E10-B07BFB04B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4B3F-6F17-4630-B2D5-EFF1D70D1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625A7-0BBE-4304-B731-243614DF9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C0CB0-6547-48B6-BEED-E45993D6D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FDDF-858F-4922-936E-7E49265A14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B31C-1C46-4D94-B86F-870FB5246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FECC6-EA53-495D-BB35-F9128CDEB4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6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7f7f7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ppt pg bkgd-2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4070520" y="1547640"/>
            <a:ext cx="412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old"/>
                <a:ea typeface="Arial Bold"/>
              </a:rPr>
              <a:t>Beginning Your Spee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4100400" y="3406680"/>
            <a:ext cx="41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8f087"/>
                </a:solidFill>
                <a:latin typeface="Arial"/>
                <a:ea typeface="Arial"/>
              </a:rPr>
              <a:t>The Better Speaker Se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428760" y="6391440"/>
            <a:ext cx="77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  <a:ea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66480" y="934920"/>
            <a:ext cx="6185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  <a:ea typeface="Arial Bold"/>
              </a:rPr>
              <a:t>Other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141640" y="2328840"/>
            <a:ext cx="61848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24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um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udience particip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demonst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reference to a historical ev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66480" y="934920"/>
            <a:ext cx="6185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  <a:ea typeface="Arial Bold"/>
              </a:rPr>
              <a:t>Openings to Avo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141640" y="2278080"/>
            <a:ext cx="59356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5280" indent="-395280">
              <a:lnSpc>
                <a:spcPct val="100000"/>
              </a:lnSpc>
              <a:spcBef>
                <a:spcPts val="1324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void acknowledging the amount of prepa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5280" indent="-395280">
              <a:lnSpc>
                <a:spcPct val="100000"/>
              </a:lnSpc>
              <a:spcBef>
                <a:spcPts val="1324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void being dull and bor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5280" indent="-395280">
              <a:lnSpc>
                <a:spcPct val="100000"/>
              </a:lnSpc>
              <a:spcBef>
                <a:spcPts val="1324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void delaying mention of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66480" y="934920"/>
            <a:ext cx="6185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  <a:ea typeface="Arial Bol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66840" y="2176200"/>
            <a:ext cx="566280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862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d222c"/>
                </a:solidFill>
                <a:latin typeface="Arial"/>
                <a:ea typeface="Arial"/>
              </a:rPr>
              <a:t>A dynamic beginning </a:t>
            </a:r>
            <a:br>
              <a:rPr sz="3600"/>
            </a:br>
            <a:r>
              <a:rPr b="1" lang="en-US" sz="3600" spc="-1" strike="noStrike">
                <a:solidFill>
                  <a:srgbClr val="cd222c"/>
                </a:solidFill>
                <a:latin typeface="Arial"/>
                <a:ea typeface="Arial"/>
              </a:rPr>
              <a:t>is essential for a successful speech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13120" y="890280"/>
            <a:ext cx="685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  <a:ea typeface="Arial Bold"/>
              </a:rPr>
              <a:t>Criteria for a Successful Ope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31760" y="2653920"/>
            <a:ext cx="688788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8520" indent="-398520">
              <a:lnSpc>
                <a:spcPct val="100000"/>
              </a:lnSpc>
              <a:spcBef>
                <a:spcPts val="1276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et the attention of the audie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8520" indent="-398520">
              <a:lnSpc>
                <a:spcPct val="100000"/>
              </a:lnSpc>
              <a:spcBef>
                <a:spcPts val="1276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ntroduce the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8520" indent="-398520">
              <a:lnSpc>
                <a:spcPct val="100000"/>
              </a:lnSpc>
              <a:spcBef>
                <a:spcPts val="1276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stablish rap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8520" indent="-398520">
              <a:lnSpc>
                <a:spcPct val="100000"/>
              </a:lnSpc>
              <a:spcBef>
                <a:spcPts val="1276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ake less than five to 10 percent of the entire speech t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66480" y="934920"/>
            <a:ext cx="6185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  <a:ea typeface="Arial Bold"/>
              </a:rPr>
              <a:t>Open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93480" y="2236680"/>
            <a:ext cx="51800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  <a:ea typeface="Arial"/>
              </a:rPr>
              <a:t>State the importance of your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ell your listeners why the topic is important to th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66480" y="934920"/>
            <a:ext cx="6185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  <a:ea typeface="Arial Bold"/>
              </a:rPr>
              <a:t>Open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84120" y="2276280"/>
            <a:ext cx="6033960" cy="29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  <a:ea typeface="Arial"/>
              </a:rPr>
              <a:t>Make a startling stat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moking kills! More Americans die each year than were killed in battle during World War II and Vietnam together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66480" y="934920"/>
            <a:ext cx="618516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  <a:ea typeface="Arial Bold"/>
              </a:rPr>
              <a:t>Open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176200" y="2212560"/>
            <a:ext cx="5778360" cy="29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  <a:ea typeface="Arial"/>
              </a:rPr>
              <a:t>Arouse suspense or curios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se a series of statements related to the topic that would pique your listeners’ interes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6480" y="934920"/>
            <a:ext cx="6185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  <a:ea typeface="Arial Bold"/>
              </a:rPr>
              <a:t>Open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84480" y="2239920"/>
            <a:ext cx="55339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  <a:ea typeface="Arial"/>
              </a:rPr>
              <a:t>Tell a story or anecdo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y brother and I went hunting last week in the woods behind my house…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66480" y="934920"/>
            <a:ext cx="6185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  <a:ea typeface="Arial Bold"/>
              </a:rPr>
              <a:t>Open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184480" y="2303280"/>
            <a:ext cx="618480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  <a:ea typeface="Arial"/>
              </a:rPr>
              <a:t>Ask a rhetorical ques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o you know what to do if your child begins to choke?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66480" y="934920"/>
            <a:ext cx="6185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  <a:ea typeface="Arial Bold"/>
              </a:rPr>
              <a:t>Open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201760" y="2277720"/>
            <a:ext cx="618336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  <a:ea typeface="Arial"/>
              </a:rPr>
              <a:t>Begin with a quotation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quotation c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dd authority to a spee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muse the audie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cd222c"/>
              </a:buClr>
              <a:buFont typeface="Webdings" charset="2"/>
              <a:buChar char="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ramatize a speech po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66480" y="934920"/>
            <a:ext cx="6185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  <a:ea typeface="Arial Bold"/>
              </a:rPr>
              <a:t>Open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01760" y="2387520"/>
            <a:ext cx="59263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  <a:ea typeface="Arial"/>
              </a:rPr>
              <a:t>Reference the occa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t allows the speaker to recognize an unusual or important event and establish a common interest with the audienc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5:06:17Z</dcterms:created>
  <dc:creator>Graphic user</dc:creator>
  <dc:description/>
  <dc:language>en-US</dc:language>
  <cp:lastModifiedBy>Diana Helms</cp:lastModifiedBy>
  <cp:lastPrinted>2011-05-09T21:08:52Z</cp:lastPrinted>
  <dcterms:modified xsi:type="dcterms:W3CDTF">2011-07-13T16:16:39Z</dcterms:modified>
  <cp:revision>14</cp:revision>
  <dc:subject/>
  <dc:title>Slide 1</dc:title>
</cp:coreProperties>
</file>